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12193588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147C6-5651-4596-87C3-ECBC61FA3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88105-D618-4903-8EBF-EDC9D54D0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C28F6-9D60-40E8-982E-16BDFC9AE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95093-C806-4B55-B884-D3F13E711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BF0DC-D281-4310-AD57-C445184EB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D206A-0911-486B-9D27-4D30265F0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DE21-367E-481E-932B-13FCA140B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A62B-640F-4B3D-A5AE-AD4DE309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E85D-9898-42F9-BF3B-DF7C5E4E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236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664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236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664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066F-FFFD-4EF6-8106-B3B6686D2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4A156-2E9E-4DCE-8453-03129D88A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6C0CF-B4FB-4CFD-A523-40B1E01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A5754-1B9D-440E-9FA8-754B418C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430AC-CDCA-4254-93A5-A668AB58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36CAA-DC03-418C-8079-97070E12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41FEE-EA7C-42B3-BC4F-030C2F49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6C8D9-D43E-4334-B65B-D6928016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AF9D-3703-4A08-9D86-9F4FE430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B8FE0-65E4-4267-9C35-BFCB0FB3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8171D-6C00-45FF-B3EA-22A471A8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C469E-C7BB-4C1D-9B0E-46B597D0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0C10B-4853-4CAF-85B8-9AD551E2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236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664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236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664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B1898-8F0A-45B9-A46E-B12983BBC9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ED8E-F3B8-4261-8052-9F84C657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23B5-F707-491A-A5BE-19C382B9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C458-9A3F-453F-AD20-3C76168E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5F05-801F-4FDB-BEDD-96D1AFE9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A7D3-4460-4143-95F2-F4AA236C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5405-87AD-4C77-B8D6-D6A726C2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4CD8-36B2-461F-A028-C4C3467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27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5FBD8-4CC4-42AA-9279-4AD57D745437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88920" bIns="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27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91135-CA39-4260-8082-B1A95AEBFC74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7880" y="1627200"/>
            <a:ext cx="989964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Arial"/>
              </a:rPr>
              <a:t>Graph Data on the Web: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Arial"/>
              </a:rPr>
              <a:t>extend the pivot,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Arial"/>
              </a:rPr>
              <a:t>don’t reinvent the whe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202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ivier Corby et 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ria – Wimmics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1"/>
          <p:cNvSpPr/>
          <p:nvPr/>
        </p:nvSpPr>
        <p:spPr>
          <a:xfrm>
            <a:off x="8610480" y="6356520"/>
            <a:ext cx="2740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Image 2" descr=""/>
          <p:cNvPicPr/>
          <p:nvPr/>
        </p:nvPicPr>
        <p:blipFill>
          <a:blip r:embed="rId1"/>
          <a:stretch/>
        </p:blipFill>
        <p:spPr>
          <a:xfrm>
            <a:off x="8472600" y="1413000"/>
            <a:ext cx="3649680" cy="24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hink in terms of an “RDF 2.0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838080" y="1557360"/>
            <a:ext cx="1109196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DF and Property Graphs are not in oppo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y are requirements for an RDF 2.0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DF 2.0 backward compatible with RDF 1.1 stack of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should not be another stack of graph data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Espace réservé du numéro de diapositive 1"/>
          <p:cNvSpPr/>
          <p:nvPr/>
        </p:nvSpPr>
        <p:spPr>
          <a:xfrm>
            <a:off x="8610480" y="6356520"/>
            <a:ext cx="2740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CE273-FE3B-4182-B825-630B6E421196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e 4"/>
          <p:cNvGrpSpPr/>
          <p:nvPr/>
        </p:nvGrpSpPr>
        <p:grpSpPr>
          <a:xfrm>
            <a:off x="3071880" y="3789360"/>
            <a:ext cx="7186680" cy="2664000"/>
            <a:chOff x="3071880" y="3789360"/>
            <a:chExt cx="7186680" cy="2664000"/>
          </a:xfrm>
        </p:grpSpPr>
        <p:sp>
          <p:nvSpPr>
            <p:cNvPr id="98" name="Cube 5"/>
            <p:cNvSpPr/>
            <p:nvPr/>
          </p:nvSpPr>
          <p:spPr>
            <a:xfrm>
              <a:off x="3071880" y="4408560"/>
              <a:ext cx="7186680" cy="2044800"/>
            </a:xfrm>
            <a:prstGeom prst="cube">
              <a:avLst>
                <a:gd name="adj" fmla="val 84712"/>
              </a:avLst>
            </a:prstGeom>
            <a:solidFill>
              <a:srgbClr val="7f7f7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URI, IRI, URL, HTTP URI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Cube 6"/>
            <p:cNvSpPr/>
            <p:nvPr/>
          </p:nvSpPr>
          <p:spPr>
            <a:xfrm>
              <a:off x="4116240" y="4703760"/>
              <a:ext cx="930240" cy="557280"/>
            </a:xfrm>
            <a:prstGeom prst="cube">
              <a:avLst>
                <a:gd name="adj" fmla="val 32319"/>
              </a:avLst>
            </a:prstGeom>
            <a:solidFill>
              <a:srgbClr val="ffe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JSO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Cube 7"/>
            <p:cNvSpPr/>
            <p:nvPr/>
          </p:nvSpPr>
          <p:spPr>
            <a:xfrm>
              <a:off x="4279680" y="4408560"/>
              <a:ext cx="4751640" cy="1411560"/>
            </a:xfrm>
            <a:prstGeom prst="cube">
              <a:avLst>
                <a:gd name="adj" fmla="val 72569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RDF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Cube 8"/>
            <p:cNvSpPr/>
            <p:nvPr/>
          </p:nvSpPr>
          <p:spPr>
            <a:xfrm>
              <a:off x="4297320" y="4330800"/>
              <a:ext cx="930240" cy="550800"/>
            </a:xfrm>
            <a:prstGeom prst="cube">
              <a:avLst>
                <a:gd name="adj" fmla="val 32319"/>
              </a:avLst>
            </a:prstGeom>
            <a:solidFill>
              <a:srgbClr val="ffd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JSON L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Cube 9"/>
            <p:cNvSpPr/>
            <p:nvPr/>
          </p:nvSpPr>
          <p:spPr>
            <a:xfrm>
              <a:off x="5272200" y="4330800"/>
              <a:ext cx="749160" cy="382320"/>
            </a:xfrm>
            <a:prstGeom prst="cube">
              <a:avLst>
                <a:gd name="adj" fmla="val 49060"/>
              </a:avLst>
            </a:prstGeom>
            <a:solidFill>
              <a:srgbClr val="e2f0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-Tripl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Cube 10"/>
            <p:cNvSpPr/>
            <p:nvPr/>
          </p:nvSpPr>
          <p:spPr>
            <a:xfrm>
              <a:off x="5272200" y="4168800"/>
              <a:ext cx="749160" cy="382320"/>
            </a:xfrm>
            <a:prstGeom prst="cube">
              <a:avLst>
                <a:gd name="adj" fmla="val 49060"/>
              </a:avLst>
            </a:prstGeom>
            <a:solidFill>
              <a:srgbClr val="e2f0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-Qua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Cube 11"/>
            <p:cNvSpPr/>
            <p:nvPr/>
          </p:nvSpPr>
          <p:spPr>
            <a:xfrm>
              <a:off x="5851440" y="4336920"/>
              <a:ext cx="831600" cy="382320"/>
            </a:xfrm>
            <a:prstGeom prst="cube">
              <a:avLst>
                <a:gd name="adj" fmla="val 49060"/>
              </a:avLst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urtle/N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Cube 12"/>
            <p:cNvSpPr/>
            <p:nvPr/>
          </p:nvSpPr>
          <p:spPr>
            <a:xfrm>
              <a:off x="5851440" y="4174920"/>
              <a:ext cx="831600" cy="382320"/>
            </a:xfrm>
            <a:prstGeom prst="cube">
              <a:avLst>
                <a:gd name="adj" fmla="val 49060"/>
              </a:avLst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iG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Cube 13"/>
            <p:cNvSpPr/>
            <p:nvPr/>
          </p:nvSpPr>
          <p:spPr>
            <a:xfrm>
              <a:off x="6512040" y="4159080"/>
              <a:ext cx="620640" cy="557280"/>
            </a:xfrm>
            <a:prstGeom prst="cube">
              <a:avLst>
                <a:gd name="adj" fmla="val 32319"/>
              </a:avLst>
            </a:prstGeom>
            <a:solidFill>
              <a:srgbClr val="7030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RDF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Cube 14"/>
            <p:cNvSpPr/>
            <p:nvPr/>
          </p:nvSpPr>
          <p:spPr>
            <a:xfrm>
              <a:off x="6512040" y="3789360"/>
              <a:ext cx="620640" cy="550800"/>
            </a:xfrm>
            <a:prstGeom prst="cube">
              <a:avLst>
                <a:gd name="adj" fmla="val 32319"/>
              </a:avLst>
            </a:prstGeom>
            <a:solidFill>
              <a:srgbClr val="9c5b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OW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Cube 15"/>
            <p:cNvSpPr/>
            <p:nvPr/>
          </p:nvSpPr>
          <p:spPr>
            <a:xfrm>
              <a:off x="5603760" y="4761000"/>
              <a:ext cx="963360" cy="593640"/>
            </a:xfrm>
            <a:prstGeom prst="cube">
              <a:avLst>
                <a:gd name="adj" fmla="val 32319"/>
              </a:avLst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PARQ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Cube 16"/>
            <p:cNvSpPr/>
            <p:nvPr/>
          </p:nvSpPr>
          <p:spPr>
            <a:xfrm>
              <a:off x="8628120" y="4408560"/>
              <a:ext cx="1166760" cy="754200"/>
            </a:xfrm>
            <a:prstGeom prst="cube">
              <a:avLst>
                <a:gd name="adj" fmla="val 49703"/>
              </a:avLst>
            </a:prstGeom>
            <a:solidFill>
              <a:srgbClr val="deeb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XM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Cube 17"/>
            <p:cNvSpPr/>
            <p:nvPr/>
          </p:nvSpPr>
          <p:spPr>
            <a:xfrm>
              <a:off x="7944120" y="5067360"/>
              <a:ext cx="1166760" cy="755640"/>
            </a:xfrm>
            <a:prstGeom prst="cube">
              <a:avLst>
                <a:gd name="adj" fmla="val 49027"/>
              </a:avLst>
            </a:prstGeom>
            <a:solidFill>
              <a:srgbClr val="fbe5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HTM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Cube 18"/>
            <p:cNvSpPr/>
            <p:nvPr/>
          </p:nvSpPr>
          <p:spPr>
            <a:xfrm>
              <a:off x="8388720" y="4103640"/>
              <a:ext cx="1387440" cy="482400"/>
            </a:xfrm>
            <a:prstGeom prst="cube">
              <a:avLst>
                <a:gd name="adj" fmla="val 32319"/>
              </a:avLst>
            </a:prstGeom>
            <a:solidFill>
              <a:srgbClr val="bdd7e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RDF XM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Cube 19"/>
            <p:cNvSpPr/>
            <p:nvPr/>
          </p:nvSpPr>
          <p:spPr>
            <a:xfrm>
              <a:off x="4483080" y="5430960"/>
              <a:ext cx="984240" cy="557280"/>
            </a:xfrm>
            <a:prstGeom prst="cube">
              <a:avLst>
                <a:gd name="adj" fmla="val 32319"/>
              </a:avLst>
            </a:prstGeom>
            <a:solidFill>
              <a:srgbClr val="d0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HTTP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Cube 20"/>
            <p:cNvSpPr/>
            <p:nvPr/>
          </p:nvSpPr>
          <p:spPr>
            <a:xfrm>
              <a:off x="4572000" y="5065920"/>
              <a:ext cx="952200" cy="463320"/>
            </a:xfrm>
            <a:prstGeom prst="cube">
              <a:avLst>
                <a:gd name="adj" fmla="val 32319"/>
              </a:avLst>
            </a:prstGeom>
            <a:solidFill>
              <a:srgbClr val="ff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Linked Dat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Cube 21"/>
            <p:cNvSpPr/>
            <p:nvPr/>
          </p:nvSpPr>
          <p:spPr>
            <a:xfrm>
              <a:off x="6980400" y="4324320"/>
              <a:ext cx="661680" cy="395280"/>
            </a:xfrm>
            <a:prstGeom prst="cube">
              <a:avLst>
                <a:gd name="adj" fmla="val 32319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CSV-L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Cube 22"/>
            <p:cNvSpPr/>
            <p:nvPr/>
          </p:nvSpPr>
          <p:spPr>
            <a:xfrm>
              <a:off x="7566120" y="4324320"/>
              <a:ext cx="661680" cy="395280"/>
            </a:xfrm>
            <a:prstGeom prst="cube">
              <a:avLst>
                <a:gd name="adj" fmla="val 32319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R2RM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Cube 23"/>
            <p:cNvSpPr/>
            <p:nvPr/>
          </p:nvSpPr>
          <p:spPr>
            <a:xfrm>
              <a:off x="7966080" y="4525920"/>
              <a:ext cx="949320" cy="563400"/>
            </a:xfrm>
            <a:prstGeom prst="cube">
              <a:avLst>
                <a:gd name="adj" fmla="val 57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GRDD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Cube 24"/>
            <p:cNvSpPr/>
            <p:nvPr/>
          </p:nvSpPr>
          <p:spPr>
            <a:xfrm>
              <a:off x="7723440" y="5038920"/>
              <a:ext cx="601560" cy="395280"/>
            </a:xfrm>
            <a:prstGeom prst="cube">
              <a:avLst>
                <a:gd name="adj" fmla="val 32319"/>
              </a:avLst>
            </a:prstGeom>
            <a:solidFill>
              <a:srgbClr val="f8cba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RDF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Cube 25"/>
            <p:cNvSpPr/>
            <p:nvPr/>
          </p:nvSpPr>
          <p:spPr>
            <a:xfrm>
              <a:off x="6462720" y="4899240"/>
              <a:ext cx="955440" cy="452520"/>
            </a:xfrm>
            <a:prstGeom prst="cube">
              <a:avLst>
                <a:gd name="adj" fmla="val 32319"/>
              </a:avLst>
            </a:prstGeom>
            <a:solidFill>
              <a:srgbClr val="2e75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HAC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Cube 26"/>
            <p:cNvSpPr/>
            <p:nvPr/>
          </p:nvSpPr>
          <p:spPr>
            <a:xfrm>
              <a:off x="4876920" y="4829040"/>
              <a:ext cx="569880" cy="390600"/>
            </a:xfrm>
            <a:prstGeom prst="cube">
              <a:avLst>
                <a:gd name="adj" fmla="val 32319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LDP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2973240" y="6472080"/>
            <a:ext cx="609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Fabien Gandon, A Survey of the First 20 Years of Research on Semantic Web and Linked Data, 201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5551560" y="3595680"/>
            <a:ext cx="77796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 12" descr=""/>
          <p:cNvPicPr/>
          <p:nvPr/>
        </p:nvPicPr>
        <p:blipFill>
          <a:blip r:embed="rId1"/>
          <a:stretch/>
        </p:blipFill>
        <p:spPr>
          <a:xfrm>
            <a:off x="6432480" y="1952640"/>
            <a:ext cx="1479600" cy="1484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838080" y="1554120"/>
            <a:ext cx="105156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21560" indent="-31752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argument to tr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4560" indent="-31572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ality, timestamp, provenance, uncertain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1560" indent="-31752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ple as subject or object of tr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1560" indent="-31752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URI to Tr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1560" indent="-31752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graph with entailment regi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 Data Entail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1560" indent="-31752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datatype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1560" indent="-31752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RQL based rule language for  RDF : construct 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1560" indent="-31752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1560" indent="-31752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B: AI on the Web requires knowledge-level interoperability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1560" indent="-31752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e 4"/>
          <p:cNvGrpSpPr/>
          <p:nvPr/>
        </p:nvGrpSpPr>
        <p:grpSpPr>
          <a:xfrm>
            <a:off x="9408960" y="3691080"/>
            <a:ext cx="2578320" cy="2636640"/>
            <a:chOff x="9408960" y="3691080"/>
            <a:chExt cx="2578320" cy="2636640"/>
          </a:xfrm>
        </p:grpSpPr>
        <p:pic>
          <p:nvPicPr>
            <p:cNvPr id="125" name="Image 5" descr=""/>
            <p:cNvPicPr/>
            <p:nvPr/>
          </p:nvPicPr>
          <p:blipFill>
            <a:blip r:embed="rId2"/>
            <a:stretch/>
          </p:blipFill>
          <p:spPr>
            <a:xfrm>
              <a:off x="9408960" y="3691080"/>
              <a:ext cx="257832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riangle isocèle 6"/>
            <p:cNvSpPr/>
            <p:nvPr/>
          </p:nvSpPr>
          <p:spPr>
            <a:xfrm flipV="1">
              <a:off x="9677160" y="3939480"/>
              <a:ext cx="404640" cy="31428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9408960" y="3741840"/>
              <a:ext cx="62856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9408960" y="3855960"/>
              <a:ext cx="312480" cy="39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" name="Picture 4" descr="lpa_10_V2.png"/>
          <p:cNvPicPr/>
          <p:nvPr/>
        </p:nvPicPr>
        <p:blipFill>
          <a:blip r:embed="rId3"/>
          <a:stretch/>
        </p:blipFill>
        <p:spPr>
          <a:xfrm>
            <a:off x="7763040" y="3220920"/>
            <a:ext cx="1760400" cy="1584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1323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ake Graph Data Interoper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1"/>
          <p:cNvSpPr/>
          <p:nvPr/>
        </p:nvSpPr>
        <p:spPr>
          <a:xfrm>
            <a:off x="8610480" y="6356520"/>
            <a:ext cx="2740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C9FB1-4479-4B4E-BA0A-42A178281B3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C:\Users\fgandon\Pictures\vlcsnap-2013-01-07-12h12m22s150.png"/>
          <p:cNvPicPr/>
          <p:nvPr/>
        </p:nvPicPr>
        <p:blipFill>
          <a:blip r:embed="rId4"/>
          <a:stretch/>
        </p:blipFill>
        <p:spPr>
          <a:xfrm>
            <a:off x="7896240" y="1122480"/>
            <a:ext cx="2244600" cy="211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analyser_log_Q2"/>
          <p:cNvPicPr/>
          <p:nvPr/>
        </p:nvPicPr>
        <p:blipFill>
          <a:blip r:embed="rId5"/>
          <a:stretch/>
        </p:blipFill>
        <p:spPr>
          <a:xfrm>
            <a:off x="9121680" y="19080"/>
            <a:ext cx="2998800" cy="29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1323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Secured and Trusted Graph Data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838080" y="1413000"/>
            <a:ext cx="105156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 SPARQL service clause to other sour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deliver RDF graph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otate SPARQL query with list of SPARQL endpoints 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s for SPARQL federated queries 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node, named graph, duplicate results, property path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canonical RDF graph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ing RDF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Espace réservé du numéro de diapositive 1"/>
          <p:cNvSpPr/>
          <p:nvPr/>
        </p:nvSpPr>
        <p:spPr>
          <a:xfrm>
            <a:off x="8610480" y="6356520"/>
            <a:ext cx="2740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A095E-998F-4328-8F23-653283FBA7DE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9553680" y="148428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"/>
          <p:cNvPicPr/>
          <p:nvPr/>
        </p:nvPicPr>
        <p:blipFill>
          <a:blip r:embed="rId2"/>
          <a:stretch/>
        </p:blipFill>
        <p:spPr>
          <a:xfrm>
            <a:off x="9696600" y="3573360"/>
            <a:ext cx="188280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1323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Graph Data Developer Friendly and View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838080" y="1700280"/>
            <a:ext cx="1051560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I for graph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DF graph style shee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à l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SS and Fres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ormation Language for R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ed Data Script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. open source Corese semantic Web factory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since 1999: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alibri"/>
              </a:rPr>
              <a:t>http://corese.inria.fr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ce réservé du numéro de diapositive 1"/>
          <p:cNvSpPr/>
          <p:nvPr/>
        </p:nvSpPr>
        <p:spPr>
          <a:xfrm>
            <a:off x="8610480" y="6356520"/>
            <a:ext cx="2740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6DEB2-06E2-4624-8452-34BCED1CE68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Image 2" descr=""/>
          <p:cNvPicPr/>
          <p:nvPr/>
        </p:nvPicPr>
        <p:blipFill>
          <a:blip r:embed="rId1"/>
          <a:stretch/>
        </p:blipFill>
        <p:spPr>
          <a:xfrm>
            <a:off x="8185320" y="2205000"/>
            <a:ext cx="3533760" cy="4132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7T07:55:05Z</dcterms:created>
  <dc:creator>Olivier Corby</dc:creator>
  <dc:description/>
  <dc:language>en-US</dc:language>
  <cp:lastModifiedBy>admin</cp:lastModifiedBy>
  <dcterms:modified xsi:type="dcterms:W3CDTF">2019-03-01T12:42:42Z</dcterms:modified>
  <cp:revision>51</cp:revision>
  <dc:subject/>
  <dc:title>Your Talk’s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</vt:r8>
  </property>
</Properties>
</file>