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103-0AD6-4625-BDCB-E04CF005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A594-7A59-4D21-96EC-B79715A2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8D8-F81E-4C1F-A78F-3A4ACA94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D2E6-747B-4654-894F-11AA6E7E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264E-70C5-44BD-A283-A4C23766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E027-819B-4043-835A-007E9275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0A6F-E7DC-4589-AF11-C49DBFAD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DEB8-BCBD-42E6-9634-B7ABC702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0945-780B-4404-9ED5-CA7C2365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D1E3-FFED-4742-AAD8-38C0DF35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696B-CCD5-412B-9B83-E9C45266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F3E-FEA1-45EA-B5A4-5FE0532C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7F8E-89D8-4EC4-B5D1-18331D60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DD1A-45F7-4EA3-9069-C2BF105A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BC3D-F756-4BC4-98DA-23FEAFA2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DC47-FBE2-4FB5-B486-3BAAF7C7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8B17-765F-46B9-8AD7-74EE753F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4E7-6ADA-4510-8D0C-C6CD0C1D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F58-E9F5-4800-8E95-36001CFB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C5D-791D-4106-9DB9-3AC284BE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F03-0596-4622-BA11-B9822932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EFF-3DED-4D6D-ACC1-61A0ED42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1939-DF79-4D03-8645-B16AD0F7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BAEC-B7AB-47AB-834D-7ECC45FF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3723-3F12-4A1D-8ED7-9E5F5FD2C9B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20120" y="304920"/>
            <a:ext cx="1039680" cy="78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9CA5-FBFD-4764-B871-034A9A028A9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0120" y="304920"/>
            <a:ext cx="1039680" cy="788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WS-I Submission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0720" y="3962160"/>
            <a:ext cx="6629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3C XML Schema User Experiences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-22 Jun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wood Shores, C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k Johnson, Epicor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lu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ttle support for creating an XML Schema pro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sition, versioning, and modularity are pain points for schema auth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kit support for some schema constructs is problema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no agreement about the best course of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improved set of test resources based on schemas in the wild would be appreci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an ability to run them lo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WS-I Submissio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S-I Schema Working Group Effo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rience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ema Producers / Auth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k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ing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S-I Organiz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open industry effort chartered to promote Web Services interoperability across platforms, applications and programming langua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andards integrator to help Web services advance in a structured, coherent man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ximately 130 member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68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% vendors, 30% end-user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68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non-U.S. membership, including very influential Japan 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S-I Schema Work Plan W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ork began in November 200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cussions were high-level and constrained to using W3C XML Schema in web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312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roperability issues with the W3C XML Schema specification itself were not the probl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ssages on the wire can be determined to conform to service descrip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312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sure that a “profile” (subset) is feasi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isks of “unraveling” the specification by disallowing feat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w else to describe an Infoset in a platform-independent way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ema Producers / Author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ility &amp; composition mechani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rs need to create derivative schemas and compose schemas into WS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bility points are awkward to descri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A is not known or correctly understood and some tools intentionally ignore the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arity practices are not well-underst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users attempt to abstract data from behavior in WS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pace-based mechanisms are not agreed-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an element co-occurrence construct in message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attempts to create any modularity constructs are not likely to be recognized by human or machine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oolkit Suppo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erring XML Schema documents to/from language types is diffic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al attribution or other extensions are used to help in ser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developers don’t want to serialize objects – others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want RPC semantics – others don’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w implementers use XML Schema valid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validation aspects get handled by combinations of type serializers, SOAP processors, and hand-rolled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oolkit Support (2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schema authors prefer designing schemas independent of any specific platform or tool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s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want to leverage unique capabilities of XML in represent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uts more pressure on “downstream” platforms and toolk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ens the set of XML Schema features and constructs generally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ity or other abstraction mechanisms – well thought-out or not – complicate the resulting schemas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oolkit Support Conclu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operability issues seem to be “witnessed” more at design-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12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graceful fallbacks when unsupported XML Schema constructs are encountered are a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12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agreement what “supported” might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to d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feel that the WS-I should profile XML Schema and define a subset to make language mapping and programmability eas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 feel that the XML Schema Specification itself is not the issue and that toolkits simply need to impr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fe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 standards will split into camps of de-facto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ility will s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sting Re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s want a way to test platforms and toolkits against XML schemas actually encounte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 examples need to culled from real-world providers rather than some academic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s might include running end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users have different expectations and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ility to test locally if desired is ide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privacy of your own hom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of individual (and possibly dated) toolkit cl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2:49:24Z</dcterms:created>
  <dc:creator>Erik Johnson</dc:creator>
  <dc:description/>
  <dc:language>en-US</dc:language>
  <cp:lastModifiedBy>Erik Johnson</cp:lastModifiedBy>
  <dcterms:modified xsi:type="dcterms:W3CDTF">2005-06-21T16:18:10Z</dcterms:modified>
  <cp:revision>26</cp:revision>
  <dc:subject/>
  <dc:title>WS-I Submission</dc:title>
</cp:coreProperties>
</file>