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BEC4-EB63-4D2A-B6A0-51A983DA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5CB2-3DA8-434B-87B8-7E0FAABB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F6FB-39EC-4290-9FD1-77F4824F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F147-183F-44A7-B3C9-0D0260F5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F8BC-C1BA-4CE3-A853-F226E5E0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7C5F-8A01-4A3F-A7A9-EF9ABAF9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3DDC-D6B2-403B-860B-E7BA9027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A308-421C-4FE5-AA29-32D30E0F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301E-3534-4659-99DB-3B8C7B55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D59C-A506-4A76-9184-B131F1F7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68FE-7326-4F2F-B960-85D53738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1939-D9E5-4BB1-9904-49822E70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5352-C38D-4390-AD70-7C5771AB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3C91-0EB5-476A-AA81-BD547C14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30B9-1134-41DF-AC62-4B0E33B0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50F7-0C64-46F9-93FC-50AE34F8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0B4A-71EC-49FF-B2E6-E3475611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989B-16EB-40AE-9FB9-A7037ADF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21CE-6FBF-408C-BB02-6F7ED06D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6565-6156-438D-9E18-1E2C2B23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AC3F-ED5A-4660-B43C-18660919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164E-410E-46A8-8C52-F56B15D9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671F-F9DA-4436-9F54-2771A5C7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DD25-B8A5-429C-A31B-E7C1C863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0DAC-66F7-44F1-BC64-84F354D0E5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2B57-8452-40FB-BE4C-8EEB61AE6A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3.org/TR/xml-media-types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WSDL Usage Experience with XML Schema 1.0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Mar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ir, WS Description 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the end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"/>
          <p:cNvGrpSpPr/>
          <p:nvPr/>
        </p:nvGrpSpPr>
        <p:grpSpPr>
          <a:xfrm>
            <a:off x="304920" y="1219320"/>
            <a:ext cx="8610480" cy="2895480"/>
            <a:chOff x="304920" y="1219320"/>
            <a:chExt cx="8610480" cy="2895480"/>
          </a:xfrm>
        </p:grpSpPr>
        <p:sp>
          <p:nvSpPr>
            <p:cNvPr id="517" name=""/>
            <p:cNvSpPr/>
            <p:nvPr/>
          </p:nvSpPr>
          <p:spPr>
            <a:xfrm>
              <a:off x="304920" y="1219320"/>
              <a:ext cx="8610480" cy="2895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129528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&lt;wsdl:description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648320" y="4267080"/>
            <a:ext cx="4724280" cy="2438640"/>
            <a:chOff x="4648320" y="4267080"/>
            <a:chExt cx="4724280" cy="2438640"/>
          </a:xfrm>
        </p:grpSpPr>
        <p:sp>
          <p:nvSpPr>
            <p:cNvPr id="520" name=""/>
            <p:cNvSpPr/>
            <p:nvPr/>
          </p:nvSpPr>
          <p:spPr>
            <a:xfrm>
              <a:off x="4648320" y="4267080"/>
              <a:ext cx="4267080" cy="24386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00600" y="4357800"/>
              <a:ext cx="45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&lt;soap:envelope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04920" y="4267080"/>
            <a:ext cx="4724280" cy="2438640"/>
            <a:chOff x="304920" y="4267080"/>
            <a:chExt cx="4724280" cy="2438640"/>
          </a:xfrm>
        </p:grpSpPr>
        <p:sp>
          <p:nvSpPr>
            <p:cNvPr id="523" name=""/>
            <p:cNvSpPr/>
            <p:nvPr/>
          </p:nvSpPr>
          <p:spPr>
            <a:xfrm>
              <a:off x="304920" y="4267080"/>
              <a:ext cx="4267080" cy="24386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7200" y="4357800"/>
              <a:ext cx="45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&lt;soap:envelope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SDL Overvie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57200" y="4889520"/>
            <a:ext cx="4190760" cy="1676520"/>
            <a:chOff x="457200" y="4889520"/>
            <a:chExt cx="4190760" cy="1676520"/>
          </a:xfrm>
        </p:grpSpPr>
        <p:sp>
          <p:nvSpPr>
            <p:cNvPr id="527" name=""/>
            <p:cNvSpPr/>
            <p:nvPr/>
          </p:nvSpPr>
          <p:spPr>
            <a:xfrm>
              <a:off x="457200" y="4889520"/>
              <a:ext cx="4053600" cy="16765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5960" y="4965840"/>
              <a:ext cx="4122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&lt;checkAvailability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&lt;checkIn&gt;2005-06-19&lt;/checkIn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&lt;checkOut&gt;2005-06-21&lt;/checkOut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&lt;roomType&gt;single&lt;/roomType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&lt;/checkAvailability&gt;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457200" y="1752480"/>
            <a:ext cx="4190760" cy="1371600"/>
            <a:chOff x="457200" y="1752480"/>
            <a:chExt cx="4190760" cy="1371600"/>
          </a:xfrm>
        </p:grpSpPr>
        <p:sp>
          <p:nvSpPr>
            <p:cNvPr id="530" name=""/>
            <p:cNvSpPr/>
            <p:nvPr/>
          </p:nvSpPr>
          <p:spPr>
            <a:xfrm>
              <a:off x="457200" y="1752480"/>
              <a:ext cx="4053600" cy="1371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5960" y="1814760"/>
              <a:ext cx="412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&lt;xs:schema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&lt;xs:element name="checkAvailability"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   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724280" y="4876920"/>
            <a:ext cx="4190760" cy="1676160"/>
            <a:chOff x="4724280" y="4876920"/>
            <a:chExt cx="4190760" cy="1676160"/>
          </a:xfrm>
        </p:grpSpPr>
        <p:sp>
          <p:nvSpPr>
            <p:cNvPr id="533" name=""/>
            <p:cNvSpPr/>
            <p:nvPr/>
          </p:nvSpPr>
          <p:spPr>
            <a:xfrm>
              <a:off x="4724280" y="4876920"/>
              <a:ext cx="4053600" cy="16761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93040" y="4952880"/>
              <a:ext cx="412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&lt;checkAvailabilityResponse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&lt;rate&gt;149.00&lt;/rate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&lt;/checkAvailabilityResponse&gt;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724280" y="1752480"/>
            <a:ext cx="4190760" cy="1527840"/>
            <a:chOff x="4724280" y="1752480"/>
            <a:chExt cx="4190760" cy="1527840"/>
          </a:xfrm>
        </p:grpSpPr>
        <p:sp>
          <p:nvSpPr>
            <p:cNvPr id="536" name=""/>
            <p:cNvSpPr/>
            <p:nvPr/>
          </p:nvSpPr>
          <p:spPr>
            <a:xfrm>
              <a:off x="4724280" y="1752480"/>
              <a:ext cx="4053600" cy="13712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93040" y="1814760"/>
              <a:ext cx="4122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&lt;xs:schema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&lt;xs:ele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name="checkAvailabilityResponse"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   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520200" y="312408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wsdl:interface name="reservationService"&gt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49960" y="3367080"/>
            <a:ext cx="56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wsdl:operation name="opCheckAvailability"&gt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15520" y="3733920"/>
            <a:ext cx="713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wsdl:binding type="http://www.w3.org/2005/05/wsdl/soap"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SDL Overvie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SDL depends on XML Sch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similarit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/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Name references/symbol sp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 design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blurred lines of respon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SDL-defined schema ext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scribing base64Bina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1712880"/>
            <a:ext cx="85345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&lt;xs:schema </a:t>
            </a: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xmlns:xmime="http://www.w3.org/2005/05/xmlmime"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 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&lt;xs:complexType name="JPEGPictureType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  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xmime:expectedContentTypes="image/jpeg"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&lt;xs:simpleCont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&lt;xs:extension base="xs:base64Binary" 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&lt;/xs:simpleCont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&lt;/xs:complexTyp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&lt;xs:element name="JPEGPicture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ype="tns:JPEGPictureType" 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&lt;/xs:schema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http://www.w3.org/TR/xml-media-typ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scribing Referen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" y="1712880"/>
            <a:ext cx="8534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wsa:Endpoint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ns:wsa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www.w3.org/2005/03/addressing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ns:wsaw="http://www.w3.org/2005/05/addressing/wsdl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ns:fabrikam="http://example.com/fabrikam"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wsa:Address&gt;http://example.com/fabrikam/acct&lt;/wsa:Address&gt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wsa:Metadata&gt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&lt;wsaw:InterfaceName&gt;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abrikam:Invento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/wsaw:InterfaceNam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/wsa:Metadata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/wsa:EndpointReference&gt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scribing Referen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1712880"/>
            <a:ext cx="853452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xs:sch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ns:wsa="http://www.w3.org/2005/03/addressing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ns:fabrikam="http://example.com/fabrikam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xmlns:wsdlx="http://www.w3.org/@@@@/@@/wsdl-extensions"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xs:import namespace="http://www.w3.org/2005/03/addressing"/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xs:complexType name="InventoryReference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wsdlx:interface="fabrikam:Inventory"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xs:complexContent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xs:restriction base="wsa:EndpointReferenceType"/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/xs:complexContent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/xs:complexTyp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/xs:schema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ersio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124 only remaining ope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ioning of message structure is a common way to version a Web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problems with &lt;xs:any&gt; and UPA make versioning of message structure difficu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C124 proposal(s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, encourage, or mandate ignoring of unknown content in a mes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, reference, or suggest an algorithm such as Henry’s “validate-twi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syntax to engage/suppress this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in WSDL or as schema exten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C124 ques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ma descriptions primarily used for code generation, not by valid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n ignore-unknown rule impact code generation or mapping of XML data to programming construc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is a WSDL problem or an XML Schema probl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5:25:34Z</dcterms:created>
  <dc:creator>Jonathan Marsh</dc:creator>
  <dc:description/>
  <dc:language>en-US</dc:language>
  <cp:lastModifiedBy>Jonathan Marsh</cp:lastModifiedBy>
  <dcterms:modified xsi:type="dcterms:W3CDTF">2005-06-21T13:57:32Z</dcterms:modified>
  <cp:revision>5</cp:revision>
  <dc:subject/>
  <dc:title>WSDL Usage Experience with XML Schema 1.0</dc:title>
</cp:coreProperties>
</file>