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6520" y="451188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6520" y="45118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634360" y="45118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4560" y="236232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2600" y="236232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6520" y="45118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24560" y="45118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2600" y="45118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90920" y="1143000"/>
            <a:ext cx="5790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666520" y="45118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34360" y="45118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6520" y="451188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666520" y="451188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6520" y="45118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634360" y="45118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4560" y="236232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82600" y="236232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666520" y="45118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24560" y="45118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82600" y="45118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90920" y="1143000"/>
            <a:ext cx="5790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6520" y="45118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34360" y="45118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34360" y="236232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6520" y="451188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7c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c8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93a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7c7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ec87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93a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09320" y="159984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93a80"/>
                </a:solidFill>
                <a:latin typeface="Arial"/>
              </a:rPr>
              <a:t>XML Schemas Experiences Rogue Wave Softwar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93a80"/>
                </a:solidFill>
                <a:latin typeface="Arial"/>
              </a:rPr>
              <a:t>Allen Brookes</a:t>
            </a:r>
            <a:endParaRPr b="1" lang="en-US" sz="36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ummary/Conclusions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ssues from difficult Schema features, both real and perceived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olution: changing or profiling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profiling Schema make 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expectations and tool design are guided by Schema spec.  Profiling should reset expec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ing won’t stop users from using features and they will still expect sup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roblems with Schema or our data 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Beans shows that a different model allows support for all of schema while supporting versi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ue Wave XML Schema experience mainly from data binding product XML Objec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positive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Schema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lid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chema Features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 provides many features with no or no simple equivalent in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Type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ing representation may be inefficient or un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chema Features - Choice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re all types possible in th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re an indication of the current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s somewhat inefficient (extra storage) and unnatural (can hold and manipulate data not in the docu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chema Features - restriction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ion can cause class members to chang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omplexType name=“base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ny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complexCont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restriction base=“base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lement name=“foo” type=“int”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restric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complex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Schema Features – mixed content</a:t>
            </a:r>
            <a:endParaRPr b="1" lang="en-US" sz="24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content doesn’t seem consistent with XML as data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one request for mixed content didn’t really nee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lement name=“foo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plexType mixed=“true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ttribute name=“bar” type=“string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 bar=“bar”&gt;content&lt;/fo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valid Schemas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ustomers have invalid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iguous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r incl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restr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pac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3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standard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generated by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ant schemas supported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Versioning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versioning model: all versioning changes represented with new XML name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ant XML data models to ignore extra element and attribut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in our model only with wild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11430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mpiler Limitations</a:t>
            </a:r>
            <a:endParaRPr b="1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23623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hemas may cause too many classes to be gen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ML, FixML, JXDM, J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925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vious fix would be to divide into multiple libraries but Schema doesn’t provide divisions that would make that possible without a lot of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15:15:31Z</dcterms:created>
  <dc:creator>Ken Oyer</dc:creator>
  <dc:description/>
  <dc:language>en-US</dc:language>
  <cp:lastModifiedBy>abrookes</cp:lastModifiedBy>
  <dcterms:modified xsi:type="dcterms:W3CDTF">2005-06-20T22:16:08Z</dcterms:modified>
  <cp:revision>80</cp:revision>
  <dc:subject/>
  <dc:title>Title Page</dc:title>
</cp:coreProperties>
</file>