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B21-52F5-4668-AD0B-53CCC288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A72-5F8D-4486-A952-0C6F2985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034-CA3F-44F3-86A0-6A843926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7E1-C7AD-40F3-A693-0D89AC6D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CF0-B647-4094-8297-9049A023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A96-FB88-46DE-9F32-19F2EBCB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AF0-B367-4AEA-B056-09BC1748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F1A-3EA0-4D5A-AEC5-7871E868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A2F-B6CC-4E99-A0A0-2D97EFEF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E6C-5D85-4FB3-893D-7E0AFED1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E80-6615-454E-AC60-EEC5E7AC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9D8-3036-48E4-9BF3-340EC5DA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3043-56D2-4622-A8A8-58C4C5E66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D in Web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glas Pur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System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rvice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1893960"/>
          <a:ext cx="8610480" cy="37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93960"/>
                    <a:ext cx="861048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crosoft Web Services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serializable CLR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v1 -&gt; v2 -&gt; v1 scenarios withou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graph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types to author application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to ensure usability on the “other sid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all of X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s a valid XSD our tools should suppor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nding code may not be strongly-ty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095880"/>
            <a:ext cx="9068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ff3300"/>
                </a:solidFill>
                <a:latin typeface="Arial"/>
              </a:rPr>
              <a:t>All schemas are supported, some are more supported than others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orting serializable CLR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de facto” XSD profile exists for 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by SoapBui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ly sequence and XSD simpl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dded some features to the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ly schema valid &amp; interop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ing, Graphs, Generics,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issues with the “other sid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support the constructs w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generate “usable” code when they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ing all of XS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XS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R mapping is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tried it and it really wasn’t u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great XML programming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reasonable way to support all of X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investing in even better XM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tails here ;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, we support “fallback gener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the most “usable” typ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 backup typed model (old tech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 Message (model for a SOAP envel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A, UPA, UPA, U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i:id &amp; xsi:r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-under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specific profiles of XSD (WS-I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24:49Z</dcterms:created>
  <dc:creator>douglasp</dc:creator>
  <dc:description/>
  <dc:language>en-US</dc:language>
  <cp:lastModifiedBy>douglasp</cp:lastModifiedBy>
  <dcterms:modified xsi:type="dcterms:W3CDTF">2005-06-21T17:53:54Z</dcterms:modified>
  <cp:revision>7</cp:revision>
  <dc:subject/>
  <dc:title>XSD in Web Services</dc:title>
</cp:coreProperties>
</file>