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6B70-32BD-4389-BF17-DE896FAFB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ships 3(4) distinct frameworks supporting Xml Schema: MSXML, System.Xml.Schema, SQL Server (and System.Xml.Serial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Path, Word, Biztalk, Visual Studio, SQL Server, SQL Workbench, and others all implement additional UI/integration on top of at least one of those frame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imply not possible to coordinate changes across all those products. These product teams (and their users) want incremental improvement, V1.0+, and require seamless integration, across update cycles.  (A company may upgrade Office suite every 2-3 years, and SQL Server every 5-7) Any evolution in Xml Schema must work with today’s existing (Xml Schema v1) produ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 alternatives (RelaxNG/Schematron/etc) handle the diversity of scenarios that XSD does (biztalk, schema&lt;-&gt;object mapping,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ant business solutions, XML Schema is a technical detai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aken 5 years to build what we believe is a solid understanding of XmlSchema, which could then be translated into a conformant implementation.  In the proces, schedules forced us to ship products with incomplete or non-conformant implementations, as we developed our understanding.  While we may deprecate those versions, we are stuck supporting them for many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is day, people still argue about how to interpret various parts of the spec.  Fortunately, what is left appears to be minor issues, but for many years after it’s release, people were finding significant inconsistencies and problematic ambiguities.  This is exacerbated by the style with which the Rec is written.  Understanding how to implement content model validation requires a read of virtually the entire document, as critical, inter-related rules are scattered throughout the document with little or no cross-refere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test-suite meant that misunderstandings might lie hidden for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mpany implementing Xml Schema has had to build up its understanding of the Rec from scratch, further enlarging the opportunity for misunderstanding and incompat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A vs Wildcar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A itself isn’t the issue, so much as optional elements + wildcards -&gt; UPA viola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our products depend on being able to tie business logic to a specific particle, but they also depend on wildcards for versio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can’t easily predict when they will hit UPA issues (complicat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arounds are UG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ation / Substitution-Grou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customers understan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map to existing models well (which is partly why it confuses peo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 was cunfusing (spread rules all ov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guidance about how to physically represent sets of schemas has lead to implementation incompatibilities (even though they are all conform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fine awkward/ambiguous in the face of sets of sc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all is too weak for many customers/scenario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2C178-33C2-4D00-B53A-EA0D70E2D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CA5B-2909-4A5E-8242-E95891A9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85617-7E28-44B1-91CA-1C1106815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EE82-FDEE-4DB5-8576-AF60E9A4A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C5C65-C2C3-4167-B466-49196B1DB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6E2A8-BA03-4A41-913B-8A4924B12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BB6A7-8932-4E80-875D-3DB1F130A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0103F-CF58-4788-9118-1E01C72F5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61909-A4DF-4ABF-9C2B-6CFCDE993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14034-7FD2-4B42-AE72-07FAAF6D1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D402A-DD6D-4017-A710-CD53E7090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DDE3-B6F7-4923-8FB3-4CFF0D3B0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7C8A-36E4-48CF-8EE0-9E271F629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116AD-F274-42A1-A180-EFA5E46BC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F1F9-612D-4F30-8A41-226B2C2F5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71762-D05D-4592-BAD2-AE09608E2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230A2-0960-457D-94AC-EB9A38321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2377-75C6-4F0E-A48C-D4ABB1EE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A62D5-87B0-4C23-9C65-7DE2D03E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EA8C-CA3E-4B4A-8E0E-32818D70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9308-EB4A-4D73-BC79-8DF3D0BF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4828-C746-4932-9971-E2BA23D7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16121-4F63-41D8-8977-DDCAF81C6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703A-145F-46DB-BFE6-E54B2572F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875B-3445-4A80-AC6A-D2CD38CD599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201E-4B1C-4DF4-AA22-9A1AE15C07F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005 W3C XML Schema Workshop</a:t>
            </a:r>
            <a:br>
              <a:rPr sz="3200"/>
            </a:br>
            <a:r>
              <a:rPr b="1" lang="en-US" sz="3200" spc="-1" strike="noStrike">
                <a:solidFill>
                  <a:srgbClr val="003366"/>
                </a:solidFill>
                <a:latin typeface="Arial"/>
              </a:rPr>
              <a:t>Microsoft Implementors’</a:t>
            </a:r>
            <a:br>
              <a:rPr sz="3200"/>
            </a:br>
            <a:r>
              <a:rPr b="1" lang="en-US" sz="3200" spc="-1" strike="noStrike">
                <a:solidFill>
                  <a:srgbClr val="003366"/>
                </a:solidFill>
                <a:latin typeface="Arial"/>
              </a:rPr>
              <a:t>User Experience Report</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4038480"/>
            <a:ext cx="4013280" cy="71136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erek Denny-Brown</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icrosoft</a:t>
            </a:r>
            <a:endParaRPr b="0" lang="en-US" sz="2000" spc="-1" strike="noStrike">
              <a:solidFill>
                <a:srgbClr val="0066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XML Schema is Out Ther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ML Schema support shipped in many products.  Customers are using i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ne of the alternatives meet all our scenario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eaking changes / revisions will take years to roll out and will be released unevenly across produc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new product that integrates will need to support both old and new</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lexity = Incompatibility</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has taken years to resolve crucial misunderstandings and inconsistencies in the stand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years later, vendor incompatibility continues to confound custom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stomers require tools for even the most basic task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itty Gritt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A vs Wildcards (Versio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rivation / Substitution-Grou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 representation ambigu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fine (enough sai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s:all too wea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occurrence constrai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23:08:35Z</dcterms:created>
  <dc:creator>Derek Denny-Brown</dc:creator>
  <dc:description/>
  <dc:language>en-US</dc:language>
  <cp:lastModifiedBy>Derek Denny-Brown</cp:lastModifiedBy>
  <dcterms:modified xsi:type="dcterms:W3CDTF">2005-06-21T18:22:23Z</dcterms:modified>
  <cp:revision>5</cp:revision>
  <dc:subject/>
  <dc:title>W3C Schema Workshop Microsoft XSD Implementors’ User Experience Report</dc:title>
</cp:coreProperties>
</file>