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108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12392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1088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371088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4480" y="11239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800" y="11239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108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4480" y="37108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800" y="37108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1239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394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080" y="1123920"/>
            <a:ext cx="394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16632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080" y="1123920"/>
            <a:ext cx="394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71088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1239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394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080" y="112392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080" y="371088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080" y="112392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7108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7108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080" y="112392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71088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080" y="371088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4480" y="11239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5800" y="11239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7108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4480" y="37108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5800" y="37108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394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123920"/>
            <a:ext cx="394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16632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123920"/>
            <a:ext cx="394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1088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394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12392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371088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123920"/>
            <a:ext cx="3941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108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2b5a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1239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entury Gothic"/>
              </a:rPr>
              <a:t>Click to edit the outline text format</a:t>
            </a: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spcBef>
                <a:spcPts val="649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entury Gothic"/>
              </a:rPr>
              <a:t>Second Outline Level</a:t>
            </a: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  <a:p>
            <a:pPr lvl="2" marL="1324080" indent="-228600">
              <a:spcBef>
                <a:spcPts val="649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entury Gothic"/>
              </a:rPr>
              <a:t>Third Outline Level</a:t>
            </a: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  <a:p>
            <a:pPr lvl="3" marL="1666800" indent="-228600">
              <a:spcBef>
                <a:spcPts val="649"/>
              </a:spcBef>
              <a:buClr>
                <a:srgbClr val="0000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entury Gothic"/>
              </a:rPr>
              <a:t>Fourth Outline Level</a:t>
            </a: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  <a:p>
            <a:pPr lvl="4" marL="2066760" indent="-285480">
              <a:spcBef>
                <a:spcPts val="649"/>
              </a:spcBef>
              <a:buClr>
                <a:srgbClr val="cc0000"/>
              </a:buClr>
              <a:buSzPct val="110000"/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entury Gothic"/>
              </a:rPr>
              <a:t>Fifth Outline Level</a:t>
            </a: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  <a:p>
            <a:pPr lvl="5" marL="2066760" indent="-285480">
              <a:spcBef>
                <a:spcPts val="649"/>
              </a:spcBef>
              <a:buClr>
                <a:srgbClr val="000099"/>
              </a:buClr>
              <a:buSzPct val="110000"/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entury Gothic"/>
              </a:rPr>
              <a:t>Sixth Outline Level</a:t>
            </a: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  <a:p>
            <a:pPr lvl="6" marL="2066760" indent="-285480">
              <a:spcBef>
                <a:spcPts val="649"/>
              </a:spcBef>
              <a:buClr>
                <a:srgbClr val="000099"/>
              </a:buClr>
              <a:buSzPct val="110000"/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entury Gothic"/>
              </a:rPr>
              <a:t>Seventh Outline Level</a:t>
            </a: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6240960"/>
            <a:ext cx="455616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56565"/>
                </a:solidFill>
                <a:latin typeface="Century Gothic"/>
              </a:rPr>
              <a:t>ACORD’s Experiences with W3C Schema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9600">
            <a:off x="7009920" y="6624360"/>
            <a:ext cx="6876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Century Gothic"/>
              </a:rPr>
              <a:t>SLIDE 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 </a:t>
            </a:r>
            <a:fld id="{784E1E52-89EE-4442-81E0-671431D1FE3E}" type="slidenum">
              <a:rPr b="0" lang="en-US" sz="800" spc="-1" strike="noStrike">
                <a:solidFill>
                  <a:srgbClr val="000099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9600">
            <a:off x="4971960" y="6629040"/>
            <a:ext cx="6811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10/18/02</a:t>
            </a: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900000"/>
            <a:ext cx="8686800" cy="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9600">
            <a:off x="8007480" y="6594120"/>
            <a:ext cx="982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Century Gothic"/>
              </a:rPr>
              <a:t>ACORD 2005.</a:t>
            </a: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757160"/>
            <a:ext cx="4419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92b5a"/>
                </a:solidFill>
                <a:latin typeface="Century Gothic"/>
              </a:rPr>
              <a:t>Click to edit the title text format</a:t>
            </a:r>
            <a:endParaRPr b="1" lang="en-US" sz="34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1" lang="en-US" sz="3000" spc="-1" strike="noStrike">
              <a:solidFill>
                <a:srgbClr val="80808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565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656565"/>
              </a:solidFill>
              <a:latin typeface="Century Gothic"/>
            </a:endParaRPr>
          </a:p>
          <a:p>
            <a:pPr lvl="2" marL="914400" indent="181080" algn="ctr">
              <a:spcBef>
                <a:spcPts val="550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56565"/>
                </a:solidFill>
                <a:latin typeface="Century Gothic"/>
              </a:rPr>
              <a:t>Third Outline Level</a:t>
            </a:r>
            <a:endParaRPr b="1" lang="en-US" sz="2200" spc="-1" strike="noStrike">
              <a:solidFill>
                <a:srgbClr val="656565"/>
              </a:solidFill>
              <a:latin typeface="Century Gothic"/>
            </a:endParaRPr>
          </a:p>
          <a:p>
            <a:pPr lvl="3" marL="1371600" indent="66600" algn="ctr">
              <a:spcBef>
                <a:spcPts val="499"/>
              </a:spcBef>
              <a:buClr>
                <a:srgbClr val="0000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565"/>
                </a:solidFill>
                <a:latin typeface="Century Gothic"/>
              </a:rPr>
              <a:t>Fourth Outline Level</a:t>
            </a:r>
            <a:endParaRPr b="1" lang="en-US" sz="2000" spc="-1" strike="noStrike">
              <a:solidFill>
                <a:srgbClr val="656565"/>
              </a:solidFill>
              <a:latin typeface="Century Gothic"/>
            </a:endParaRPr>
          </a:p>
          <a:p>
            <a:pPr lvl="4" marL="1781280" algn="ctr">
              <a:spcBef>
                <a:spcPts val="451"/>
              </a:spcBef>
              <a:buClr>
                <a:srgbClr val="cc0000"/>
              </a:buClr>
              <a:buSzPct val="110000"/>
              <a:buFont typeface="Marlett" charset="2"/>
              <a:buChar char="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Fifth Outline Level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5" marL="1781280">
              <a:spcBef>
                <a:spcPts val="451"/>
              </a:spcBef>
              <a:buClr>
                <a:srgbClr val="000099"/>
              </a:buClr>
              <a:buSzPct val="110000"/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Sixth Outline Level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6" marL="1781280">
              <a:spcBef>
                <a:spcPts val="451"/>
              </a:spcBef>
              <a:buClr>
                <a:srgbClr val="000099"/>
              </a:buClr>
              <a:buSzPct val="110000"/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Seventh Outline Level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757160"/>
            <a:ext cx="4419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92b5a"/>
                </a:solidFill>
                <a:latin typeface="Century Gothic"/>
              </a:rPr>
              <a:t>ACORD’s Experiences using W3C Schemas</a:t>
            </a:r>
            <a:endParaRPr b="1" lang="en-US" sz="38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4419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Century Gothic"/>
              </a:rPr>
              <a:t>Dan Vint</a:t>
            </a:r>
            <a:endParaRPr b="1" lang="en-US" sz="3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Century Gothic"/>
              </a:rPr>
              <a:t>Senior Architect</a:t>
            </a:r>
            <a:endParaRPr b="1" lang="en-US" sz="3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entury Gothic"/>
              </a:rPr>
              <a:t>dvint@acord.org</a:t>
            </a:r>
            <a:endParaRPr b="1" lang="en-US" sz="2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2b5a"/>
                </a:solidFill>
                <a:latin typeface="Century Gothic"/>
              </a:rPr>
              <a:t>Background</a:t>
            </a: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ACORD</a:t>
            </a:r>
            <a:endParaRPr b="1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Not-for-profit Insurance industries standards body, we have standards for Life, P&amp;C and RLC lines. Used in US, Canada, England/London Market, and Europe. Growing interest in Japan/China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Three standards started in 3 different ways:</a:t>
            </a:r>
            <a:endParaRPr b="1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Century Gothic"/>
              </a:rPr>
              <a:t>P&amp;C</a:t>
            </a: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 – based upon an earlier EDI standard. Originally designed for DTD use, but added schema support when it was available (currently using both)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Century Gothic"/>
              </a:rPr>
              <a:t>Life</a:t>
            </a: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 – started as a MS initiative then brought into ACORD. DTD based originally, now only using schema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Century Gothic"/>
              </a:rPr>
              <a:t>RLC</a:t>
            </a: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 – started in a European standards group, also based upon an EDI standard. Using DTDs currently trying to add schema support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Business Issue: How to bring the 3 standards into one design</a:t>
            </a:r>
            <a:endParaRPr b="1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For ACORD the best thing would be a common model, design and naming conventions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Can’t get there because we are on different cycles. Life and RLC cannot break backwards compatibility, P&amp;C is currently redesigning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Each as a level of adoption and entrenchment.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2b5a"/>
                </a:solidFill>
                <a:latin typeface="Century Gothic"/>
              </a:rPr>
              <a:t>Things that we like:</a:t>
            </a: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550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Having the schema format be an XML document has been very useful</a:t>
            </a:r>
            <a:endParaRPr b="1" lang="en-US" sz="2200" spc="-1" strike="noStrike">
              <a:solidFill>
                <a:srgbClr val="000099"/>
              </a:solidFill>
              <a:latin typeface="Century Gothic"/>
            </a:endParaRPr>
          </a:p>
          <a:p>
            <a:pPr lvl="1" marL="961200" indent="-401040">
              <a:spcBef>
                <a:spcPts val="499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565"/>
                </a:solidFill>
                <a:latin typeface="Century Gothic"/>
              </a:rPr>
              <a:t>We generate schemas and DTDs from a meta-format that is maintained in a database</a:t>
            </a:r>
            <a:endParaRPr b="1" lang="en-US" sz="2000" spc="-1" strike="noStrike">
              <a:solidFill>
                <a:srgbClr val="656565"/>
              </a:solidFill>
              <a:latin typeface="Century Gothic"/>
            </a:endParaRPr>
          </a:p>
          <a:p>
            <a:pPr lvl="1" marL="961200" indent="-401040">
              <a:spcBef>
                <a:spcPts val="499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6565"/>
                </a:solidFill>
                <a:latin typeface="Century Gothic"/>
              </a:rPr>
              <a:t>We slice the schema into smaller subsets via XSLT</a:t>
            </a:r>
            <a:endParaRPr b="1" lang="en-US" sz="2000" spc="-1" strike="noStrike">
              <a:solidFill>
                <a:srgbClr val="656565"/>
              </a:solidFill>
              <a:latin typeface="Century Gothic"/>
            </a:endParaRPr>
          </a:p>
          <a:p>
            <a:pPr marL="447840" indent="-447840">
              <a:spcBef>
                <a:spcPts val="550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Support for basic data types was crucial for our needs.</a:t>
            </a:r>
            <a:endParaRPr b="1" lang="en-US" sz="2200" spc="-1" strike="noStrike">
              <a:solidFill>
                <a:srgbClr val="000099"/>
              </a:solidFill>
              <a:latin typeface="Century Gothic"/>
            </a:endParaRPr>
          </a:p>
          <a:p>
            <a:pPr marL="447840" indent="-447840">
              <a:spcBef>
                <a:spcPts val="550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Having a built-in documentation standard is very nice.</a:t>
            </a:r>
            <a:endParaRPr b="1" lang="en-US" sz="2200" spc="-1" strike="noStrike">
              <a:solidFill>
                <a:srgbClr val="000099"/>
              </a:solidFill>
              <a:latin typeface="Century Gothic"/>
            </a:endParaRPr>
          </a:p>
          <a:p>
            <a:pPr marL="447840" indent="-447840">
              <a:spcBef>
                <a:spcPts val="550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Support for namespaces and import/include/redefine is useful, but rough around the edges.</a:t>
            </a:r>
            <a:endParaRPr b="1" lang="en-US" sz="2200" spc="-1" strike="noStrike">
              <a:solidFill>
                <a:srgbClr val="000099"/>
              </a:solidFill>
              <a:latin typeface="Century Gothic"/>
            </a:endParaRPr>
          </a:p>
          <a:p>
            <a:pPr marL="447840" indent="-447840">
              <a:spcBef>
                <a:spcPts val="550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Can we get this sort of support reversed engineered into XML and DTDs?</a:t>
            </a:r>
            <a:endParaRPr b="1" lang="en-US" sz="22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2b5a"/>
                </a:solidFill>
                <a:latin typeface="Century Gothic"/>
              </a:rPr>
              <a:t>Things we don’t like about W3C Schema</a:t>
            </a: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1239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Took a simple 30 page standard and blew it out of proportion.</a:t>
            </a:r>
            <a:endParaRPr b="1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XML took a simplifying approach, schema reversed that and put in experimental features and complexity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Fallout: 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You need tools to manage a schema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No two tools agree on their implementations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Incomplete implementations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Should have left out xsd:all, DTDs did and Schema implementation is not generally usable anyway.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I can teach DTD syntax in an hour or less; it takes a day for schema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Entities requiring the use of DTDs. </a:t>
            </a:r>
            <a:endParaRPr b="1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“</a:t>
            </a: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Yuch! DTDs, that’s old technology and a kludge” Surely if the schema guys had wanted entities to be used they would have defined a new method (or they wouled have at least documented this use.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92b5a"/>
                </a:solidFill>
                <a:latin typeface="Century Gothic"/>
              </a:rPr>
              <a:t>Things we don’t like about W3C Schema (cont)</a:t>
            </a:r>
            <a:endParaRPr b="1" lang="en-US" sz="26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No way to clearly specify the Schema</a:t>
            </a:r>
            <a:endParaRPr b="1" lang="en-US" sz="22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Hint attributes!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Confused world of support and no support for the hints, inconsistent on what should happen when they appear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No way to version schema that is supported by tools</a:t>
            </a:r>
            <a:endParaRPr b="1" lang="en-US" sz="22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xsd:version attribute has no use or support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Namespaces only way to force recognition of a change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entury Gothic"/>
              </a:rPr>
              <a:t>Namespace designation of extension – want a different namespace rather than the original ACORD. (namespace pollution)</a:t>
            </a:r>
            <a:endParaRPr b="1" lang="en-US" sz="2400" spc="-1" strike="noStrike">
              <a:solidFill>
                <a:srgbClr val="000099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entury Gothic"/>
              </a:rPr>
              <a:t>Extensions, did content really have to be added outside the original choice or sequence?</a:t>
            </a:r>
            <a:endParaRPr b="1" lang="en-US" sz="2400" spc="-1" strike="noStrike">
              <a:solidFill>
                <a:srgbClr val="000099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entury Gothic"/>
              </a:rPr>
              <a:t>Extensibility of enumerated lists</a:t>
            </a:r>
            <a:endParaRPr b="1" lang="en-US" sz="24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Probably 1/3 of the elements in ACORD are based upon code lists, and we can’t extended them.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Need a way to identify the extended code values. We have our tpe based upon QName, but this doesn’t work for external lists.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92b5a"/>
                </a:solidFill>
                <a:latin typeface="Century Gothic"/>
              </a:rPr>
              <a:t>Things we don’t like about W3C Schema (cont)</a:t>
            </a:r>
            <a:endParaRPr b="1" lang="en-US" sz="26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No easy way to both validate or ignore extensions</a:t>
            </a:r>
            <a:endParaRPr b="1" lang="en-US" sz="22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We need extensions, but not all trading partners will know what the extensions are, so they need to at least be able to validate the basic ACORD information and structure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We have two designs within our standard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One uses global elements and groups with restriction and extension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Another uses an element of &lt;Extension&gt; that is of type xsd:any and is added at the end of our aggregates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How about a processContents="strict“ or processContents=“lax"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We could use co-constraints and/or “business rules”</a:t>
            </a:r>
            <a:endParaRPr b="1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We publish a huge schema – 700 messages, 29,000 lines need help in modularizing to make the smallest schema possible</a:t>
            </a:r>
            <a:endParaRPr b="1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Business level validation – just because a date is the wrong format, should I reject a $50 million transaction?</a:t>
            </a:r>
            <a:endParaRPr b="1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Don’t like substituionGroups because it is not easy to determine the final content model</a:t>
            </a:r>
            <a:endParaRPr b="1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I like the old SGML notion of “no surprises”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2b5a"/>
                </a:solidFill>
                <a:latin typeface="Century Gothic"/>
              </a:rPr>
              <a:t>Where we need help</a:t>
            </a: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374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entury Gothic"/>
              </a:rPr>
              <a:t>Need an integrated approach that supports all tools</a:t>
            </a:r>
            <a:endParaRPr b="1" lang="en-US" sz="15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56565"/>
                </a:solidFill>
                <a:latin typeface="Century Gothic"/>
              </a:rPr>
              <a:t>Code generators my biggest headache currently – don’t support all features, don’t expect to and have decided what subset of XML they think is appropriate</a:t>
            </a:r>
            <a:endParaRPr b="1" lang="en-US" sz="14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56565"/>
                </a:solidFill>
                <a:latin typeface="Century Gothic"/>
              </a:rPr>
              <a:t>Groups</a:t>
            </a:r>
            <a:endParaRPr b="1" lang="en-US" sz="13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56565"/>
                </a:solidFill>
                <a:latin typeface="Century Gothic"/>
              </a:rPr>
              <a:t>Redefine</a:t>
            </a:r>
            <a:endParaRPr b="1" lang="en-US" sz="13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56565"/>
                </a:solidFill>
                <a:latin typeface="Century Gothic"/>
              </a:rPr>
              <a:t>Attributes on data level elements</a:t>
            </a:r>
            <a:endParaRPr b="1" lang="en-US" sz="13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56565"/>
                </a:solidFill>
                <a:latin typeface="Century Gothic"/>
              </a:rPr>
              <a:t>Too many levels of inheritance in classes – create complex code</a:t>
            </a:r>
            <a:endParaRPr b="1" lang="en-US" sz="13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56565"/>
                </a:solidFill>
                <a:latin typeface="Century Gothic"/>
              </a:rPr>
              <a:t>‘</a:t>
            </a:r>
            <a:r>
              <a:rPr b="1" lang="en-US" sz="1300" spc="-1" strike="noStrike">
                <a:solidFill>
                  <a:srgbClr val="656565"/>
                </a:solidFill>
                <a:latin typeface="Century Gothic"/>
              </a:rPr>
              <a:t>abstract’</a:t>
            </a:r>
            <a:endParaRPr b="1" lang="en-US" sz="13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56565"/>
                </a:solidFill>
                <a:latin typeface="Century Gothic"/>
              </a:rPr>
              <a:t>Possible solution – profiles</a:t>
            </a:r>
            <a:endParaRPr b="1" lang="en-US" sz="14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56565"/>
                </a:solidFill>
                <a:latin typeface="Century Gothic"/>
              </a:rPr>
              <a:t>XML DTD level support plus data types (import, include, namespaces)</a:t>
            </a:r>
            <a:endParaRPr b="1" lang="en-US" sz="13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56565"/>
                </a:solidFill>
                <a:latin typeface="Century Gothic"/>
              </a:rPr>
              <a:t>DTD+ with base types (abstracts, redefine)</a:t>
            </a:r>
            <a:endParaRPr b="1" lang="en-US" sz="13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56565"/>
                </a:solidFill>
                <a:latin typeface="Century Gothic"/>
              </a:rPr>
              <a:t>Schema extreme (key, unique, substitution groups)</a:t>
            </a:r>
            <a:endParaRPr b="1" lang="en-US" sz="13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56565"/>
                </a:solidFill>
                <a:latin typeface="Century Gothic"/>
              </a:rPr>
              <a:t>Should the W3C consider specifying a language that uses XML as a data type? Scripting or compiled</a:t>
            </a:r>
            <a:endParaRPr b="1" lang="en-US" sz="14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56565"/>
                </a:solidFill>
                <a:latin typeface="Century Gothic"/>
              </a:rPr>
              <a:t>XML should become a native data type</a:t>
            </a:r>
            <a:endParaRPr b="1" lang="en-US" sz="1400" spc="-1" strike="noStrike">
              <a:solidFill>
                <a:srgbClr val="656565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374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entury Gothic"/>
              </a:rPr>
              <a:t>Consider the adoption of a catalog approach to schema location, general processing, and versioning</a:t>
            </a:r>
            <a:endParaRPr b="1" lang="en-US" sz="1500" spc="-1" strike="noStrike">
              <a:solidFill>
                <a:srgbClr val="000099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374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entury Gothic"/>
              </a:rPr>
              <a:t>One standard has a wide content model for messages and uses a type code to designate the type of message being sent</a:t>
            </a:r>
            <a:endParaRPr b="1" lang="en-US" sz="15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56565"/>
                </a:solidFill>
                <a:latin typeface="Century Gothic"/>
              </a:rPr>
              <a:t>Everything is optional in the core design of elements</a:t>
            </a:r>
            <a:endParaRPr b="1" lang="en-US" sz="14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56565"/>
                </a:solidFill>
                <a:latin typeface="Century Gothic"/>
              </a:rPr>
              <a:t>We need a very rich method for managing co-constraints based upon several hundred type codes</a:t>
            </a:r>
            <a:endParaRPr b="1" lang="en-US" sz="14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56565"/>
                </a:solidFill>
                <a:latin typeface="Century Gothic"/>
              </a:rPr>
              <a:t>Would really like to somehow get auto-magic schema validation of these real message requirements</a:t>
            </a:r>
            <a:endParaRPr b="1" lang="en-US" sz="1400" spc="-1" strike="noStrike">
              <a:solidFill>
                <a:srgbClr val="656565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374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entury Gothic"/>
              </a:rPr>
              <a:t>We want to standardize on the resulting data stream when it comes to extensions</a:t>
            </a:r>
            <a:endParaRPr b="1" lang="en-US" sz="15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56565"/>
                </a:solidFill>
                <a:latin typeface="Century Gothic"/>
              </a:rPr>
              <a:t>Need a way to prevent the use of features we don’t want to support.</a:t>
            </a:r>
            <a:endParaRPr b="1" lang="en-US" sz="1400" spc="-1" strike="noStrike">
              <a:solidFill>
                <a:srgbClr val="65656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2b5a"/>
                </a:solidFill>
                <a:latin typeface="Century Gothic"/>
              </a:rPr>
              <a:t>Where we need help (cont)</a:t>
            </a: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entury Gothic"/>
              </a:rPr>
              <a:t>Reuse of other schemas</a:t>
            </a:r>
            <a:endParaRPr b="1" lang="en-US" sz="18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Good intentions, but impossible to do unless designed at the same time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Design principals and modeling techniques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Based upon different datatypes – with/without id attributes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I want to share part C of an outside schema, outside schema has a definition for Party and it is used in C, I also have a Party definition and I need to substitute it in part C to make it useful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No easy way to take a part of the other schema unless it is in a subset file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All I want is codelist A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lvl="2" marL="1324080" indent="-2286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10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All I want is the Party definition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65"/>
                </a:solidFill>
                <a:latin typeface="Century Gothic"/>
              </a:rPr>
              <a:t>Need to promote a standard way to define codelists and encourage standards producers to publish them in XML based upon that standard. See previous bullet.</a:t>
            </a:r>
            <a:endParaRPr b="1" lang="en-US" sz="1600" spc="-1" strike="noStrike">
              <a:solidFill>
                <a:srgbClr val="656565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Want extensions to be identified against the extender, not the originator</a:t>
            </a:r>
            <a:endParaRPr b="1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56565"/>
                </a:solidFill>
                <a:latin typeface="Century Gothic"/>
              </a:rPr>
              <a:t>Propose a new attribute "hideBase" to manage “namespace pollution”</a:t>
            </a:r>
            <a:endParaRPr b="1" lang="en-US" sz="1800" spc="-1" strike="noStrike">
              <a:solidFill>
                <a:srgbClr val="65656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663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2b5a"/>
                </a:solidFill>
                <a:latin typeface="Century Gothic"/>
              </a:rPr>
              <a:t>Why ask why?</a:t>
            </a:r>
            <a:endParaRPr b="1" lang="en-US" sz="3000" spc="-1" strike="noStrike">
              <a:solidFill>
                <a:srgbClr val="c92b5a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1239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entury Gothic"/>
              </a:rPr>
              <a:t>Why do xml special attributes require definition in schema, but not DTD?</a:t>
            </a: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spcBef>
                <a:spcPts val="60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565"/>
                </a:solidFill>
                <a:latin typeface="Century Gothic"/>
              </a:rPr>
              <a:t>xml:space requires and include file, but xmlns is automagically there!</a:t>
            </a:r>
            <a:endParaRPr b="1" lang="en-US" sz="2400" spc="-1" strike="noStrike">
              <a:solidFill>
                <a:srgbClr val="656565"/>
              </a:solidFill>
              <a:latin typeface="Century Gothic"/>
            </a:endParaRPr>
          </a:p>
          <a:p>
            <a:pPr lvl="1" marL="981000" indent="-409320">
              <a:spcBef>
                <a:spcPts val="60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565"/>
                </a:solidFill>
                <a:latin typeface="Century Gothic"/>
              </a:rPr>
              <a:t>How will the xml:id attribute be implemented?</a:t>
            </a:r>
            <a:endParaRPr b="1" lang="en-US" sz="2400" spc="-1" strike="noStrike">
              <a:solidFill>
                <a:srgbClr val="656565"/>
              </a:solidFill>
              <a:latin typeface="Century Gothic"/>
            </a:endParaRPr>
          </a:p>
          <a:p>
            <a:pPr marL="457200" indent="-457200">
              <a:spcBef>
                <a:spcPts val="649"/>
              </a:spcBef>
              <a:buClr>
                <a:srgbClr val="c92b5a"/>
              </a:buClr>
              <a:buSzPct val="5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entury Gothic"/>
              </a:rPr>
              <a:t>Why is a simpleType not always simple?</a:t>
            </a:r>
            <a:endParaRPr b="1" lang="en-US" sz="2600" spc="-1" strike="noStrike">
              <a:solidFill>
                <a:srgbClr val="000099"/>
              </a:solidFill>
              <a:latin typeface="Century Gothic"/>
            </a:endParaRPr>
          </a:p>
          <a:p>
            <a:pPr lvl="1" marL="981000" indent="-409320">
              <a:spcBef>
                <a:spcPts val="601"/>
              </a:spcBef>
              <a:buClr>
                <a:srgbClr val="000099"/>
              </a:buClr>
              <a:buSzPct val="90000"/>
              <a:buFont typeface="Marlett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6565"/>
                </a:solidFill>
                <a:latin typeface="Century Gothic"/>
              </a:rPr>
              <a:t>Why does adding an attribute make a simpleType become complex with a simple content?</a:t>
            </a:r>
            <a:endParaRPr b="1" lang="en-US" sz="2400" spc="-1" strike="noStrike">
              <a:solidFill>
                <a:srgbClr val="65656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5:10:48Z</dcterms:created>
  <dc:creator>raimondo</dc:creator>
  <dc:description/>
  <dc:language>en-US</dc:language>
  <cp:lastModifiedBy>Dan Vint</cp:lastModifiedBy>
  <cp:lastPrinted>2002-10-23T15:20:19Z</cp:lastPrinted>
  <dcterms:modified xsi:type="dcterms:W3CDTF">2005-06-21T22:22:01Z</dcterms:modified>
  <cp:revision>53</cp:revision>
  <dc:subject/>
  <dc:title>Title Goes Here</dc:title>
</cp:coreProperties>
</file>