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12D2-E503-4A6E-8AC3-7E64C26D9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6AE2-31EF-4ACB-9E8F-F4A3FE3A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7771-BC85-4AFD-A54C-2962CE7F8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709B-B984-45CB-B3FA-A2F91E2F6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585F-49FA-4D80-8F5D-DA1B32B8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7620-69B7-4048-B952-5C84989A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EFCD-11C7-471E-9CC7-345C04F0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08D5-8EAC-4E37-B310-A489D30A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ED6B-0491-40F0-9E5F-29DC78BC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5B20-9308-474A-94D8-2390CDB0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C0D5-5D62-48B2-B229-6B8BB94D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D41D-2CC6-4DE8-840B-FC3EAE5C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C503-EE52-424C-9211-9B1E215A8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754r.ucbtest.org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754r.ucbtest.org/" TargetMode="External"/><Relationship Id="rId2" Type="http://schemas.openxmlformats.org/officeDocument/2006/relationships/hyperlink" Target="http://www2.hursley.ibm.com/decimal/IEEE-cowlishaw-arith16.pdf" TargetMode="External"/><Relationship Id="rId3" Type="http://schemas.openxmlformats.org/officeDocument/2006/relationships/hyperlink" Target="http://www.w3.org/TR/2005/WD-xmlschema11-2/datatypes.html#pDecimal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81532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W3C XML Schema WG</a:t>
            </a:r>
            <a:br>
              <a:rPr sz="4400"/>
            </a:b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The precisionDecimal</a:t>
            </a:r>
            <a:br>
              <a:rPr sz="4400"/>
            </a:b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Datatype</a:t>
            </a:r>
            <a:endParaRPr b="0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3434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ah Mendelso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3C XML Schema Work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e 22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Why a new type?</a:t>
            </a:r>
            <a:endParaRPr b="0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riginal xsd:decimal type is not compatible with emerging IEEE754r decimal arithm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development of Schema 1.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M filed objection requesting that xsd:decimal be IEEE754r-compa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:  will be considered in XML Schema 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st working draft of Schema 1.1 includes pDecimal (will be renamed precisionDecimal in next draf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94440" y="6095880"/>
            <a:ext cx="64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 on the IEEE effort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754r.ucbtest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Technical Information</a:t>
            </a:r>
            <a:endParaRPr b="0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Decimal and Binary Floating point unified in a single standard with similar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ons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digits count: “4.0 != 4.00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age Forma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EEE suggests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chema type does not suggest or require repres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tible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.Math.BigDecimal, .Net System.Dec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ed in many other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ike IEEE Binary, IEEE Decimal will be supported in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 on the IEEE effort (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754r.ucbtest.org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e Cowlishaw paper: (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2.hursley.ibm.com/decimal/IEEE-cowlishaw-arith16.pd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ma working draft: (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w3.org/TR/2005/WD-xmlschema11-2/datatypes.html#pDecim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224316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6440" y="3127320"/>
            <a:ext cx="779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Times New Roman (PCL6)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2T15:19:20Z</dcterms:created>
  <dc:creator>Noah Mendelsohn</dc:creator>
  <dc:description/>
  <dc:language>en-US</dc:language>
  <cp:lastModifiedBy>Noah Mendelsohn</cp:lastModifiedBy>
  <dcterms:modified xsi:type="dcterms:W3CDTF">2005-06-22T16:47:23Z</dcterms:modified>
  <cp:revision>13</cp:revision>
  <dc:subject/>
  <dc:title>W3C XML Schema WG Versioning and Extensibility of Schemas and Vocabularies</dc:title>
</cp:coreProperties>
</file>