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849-5D5E-4580-8768-C9678103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C9E-F62D-43B1-B69E-EB22288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2AB-C368-4C8C-A49A-8EF4773D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D7B-A126-4085-9B78-F029AB4C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B01-91F4-4B6A-A287-FC48EA7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756-6D2E-4EBE-9F2F-5D0DFCBF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9EE-4236-4104-B5B4-1B24D7E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668-964D-4CAF-B63A-D09FD2D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ACA-4198-47D4-BD13-3D3138A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0F2-458E-4B40-B28D-BEF7D57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45B-D88A-441B-920A-04AB3DD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314-0193-47BC-9B99-6CC1CA0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733-EBFF-40B2-AF53-764F084D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XML/2005/xsd-versioning-use-cases/" TargetMode="External"/><Relationship Id="rId2" Type="http://schemas.openxmlformats.org/officeDocument/2006/relationships/hyperlink" Target="http://www.w3.org/XML/2004/02/xsdv.html" TargetMode="External"/><Relationship Id="rId3" Type="http://schemas.openxmlformats.org/officeDocument/2006/relationships/hyperlink" Target="http://lists.w3.org/Archives/Public/www-tag/2004Aug/att-0010/NRMVersioningProposal.html" TargetMode="External"/><Relationship Id="rId4" Type="http://schemas.openxmlformats.org/officeDocument/2006/relationships/hyperlink" Target="http://lists.w3.org/Archives/Member/w3c-xml-schema-wg/2005Apr/0035.html" TargetMode="External"/><Relationship Id="rId5" Type="http://schemas.openxmlformats.org/officeDocument/2006/relationships/hyperlink" Target="http://www.w3.org/2001/tag/doc/versioning.html" TargetMode="External"/><Relationship Id="rId6" Type="http://schemas.openxmlformats.org/officeDocument/2006/relationships/hyperlink" Target="http://www.pacificspirit.com/blog/2004/01/12/web_services_or_distributed_objects" TargetMode="External"/><Relationship Id="rId7" Type="http://schemas.openxmlformats.org/officeDocument/2006/relationships/hyperlink" Target="http://www.pacificspirit.com/Authoring/Compatibility/ExaminingElementWildcardSiblings.html" TargetMode="External"/><Relationship Id="rId8" Type="http://schemas.openxmlformats.org/officeDocument/2006/relationships/hyperlink" Target="http://www.pacificspirit.com/Authoring/Compatibility/ProvidingCompatibleSchemaEvolution.html" TargetMode="External"/><Relationship Id="rId9" Type="http://schemas.openxmlformats.org/officeDocument/2006/relationships/hyperlink" Target="http://www.w3.org/2005/05/xsd-versioning-resources.html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3.org/XML/2005/xsd-versioning-use-cases/" TargetMode="External"/><Relationship Id="rId2" Type="http://schemas.openxmlformats.org/officeDocument/2006/relationships/hyperlink" Target="http://www.w3.org/XML/2004/02/xsdv.html" TargetMode="External"/><Relationship Id="rId3" Type="http://schemas.openxmlformats.org/officeDocument/2006/relationships/hyperlink" Target="http://lists.w3.org/Archives/Public/www-tag/2004Aug/att-0010/NRMVersioningProposal.html" TargetMode="External"/><Relationship Id="rId4" Type="http://schemas.openxmlformats.org/officeDocument/2006/relationships/hyperlink" Target="http://lists.w3.org/Archives/Member/w3c-xml-schema-wg/2005Apr/0035.html" TargetMode="External"/><Relationship Id="rId5" Type="http://schemas.openxmlformats.org/officeDocument/2006/relationships/hyperlink" Target="http://www.w3.org/2001/tag/doc/versioning.html" TargetMode="External"/><Relationship Id="rId6" Type="http://schemas.openxmlformats.org/officeDocument/2006/relationships/hyperlink" Target="http://www.pacificspirit.com/blog/2004/01/12/web_services_or_distributed_objects" TargetMode="External"/><Relationship Id="rId7" Type="http://schemas.openxmlformats.org/officeDocument/2006/relationships/hyperlink" Target="http://www.pacificspirit.com/Authoring/Compatibility/ExaminingElementWildcardSiblings.html" TargetMode="External"/><Relationship Id="rId8" Type="http://schemas.openxmlformats.org/officeDocument/2006/relationships/hyperlink" Target="http://www.pacificspirit.com/Authoring/Compatibility/ProvidingCompatibleSchemaEvolution.html" TargetMode="External"/><Relationship Id="rId9" Type="http://schemas.openxmlformats.org/officeDocument/2006/relationships/hyperlink" Target="http://www.w3.org/2005/05/xsd-versioning-resources.html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3.org/XML/2005/xsd-versioning-use-cases/" TargetMode="External"/><Relationship Id="rId2" Type="http://schemas.openxmlformats.org/officeDocument/2006/relationships/hyperlink" Target="http://www.w3.org/XML/2004/02/xsdv.html" TargetMode="External"/><Relationship Id="rId3" Type="http://schemas.openxmlformats.org/officeDocument/2006/relationships/hyperlink" Target="http://lists.w3.org/Archives/Public/www-tag/2004Aug/att-0010/NRMVersioningProposal.html" TargetMode="External"/><Relationship Id="rId4" Type="http://schemas.openxmlformats.org/officeDocument/2006/relationships/hyperlink" Target="http://lists.w3.org/Archives/Member/w3c-xml-schema-wg/2005Apr/0035.html" TargetMode="External"/><Relationship Id="rId5" Type="http://schemas.openxmlformats.org/officeDocument/2006/relationships/hyperlink" Target="http://www.w3.org/2001/tag/doc/versioning.html" TargetMode="External"/><Relationship Id="rId6" Type="http://schemas.openxmlformats.org/officeDocument/2006/relationships/hyperlink" Target="http://www.pacificspirit.com/blog/2004/01/12/web_services_or_distributed_objects" TargetMode="External"/><Relationship Id="rId7" Type="http://schemas.openxmlformats.org/officeDocument/2006/relationships/hyperlink" Target="http://www.pacificspirit.com/Authoring/Compatibility/ExaminingElementWildcardSiblings.html" TargetMode="External"/><Relationship Id="rId8" Type="http://schemas.openxmlformats.org/officeDocument/2006/relationships/hyperlink" Target="http://www.pacificspirit.com/Authoring/Compatibility/ProvidingCompatibleSchemaEvolution.html" TargetMode="External"/><Relationship Id="rId9" Type="http://schemas.openxmlformats.org/officeDocument/2006/relationships/hyperlink" Target="http://www.w3.org/2005/05/xsd-versioning-resources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3.org/XML/2005/xsd-versioning-use-cases/" TargetMode="External"/><Relationship Id="rId2" Type="http://schemas.openxmlformats.org/officeDocument/2006/relationships/hyperlink" Target="http://www.w3.org/XML/2004/02/xsdv.html" TargetMode="External"/><Relationship Id="rId3" Type="http://schemas.openxmlformats.org/officeDocument/2006/relationships/hyperlink" Target="http://lists.w3.org/Archives/Public/www-tag/2004Aug/att-0010/NRMVersioningProposal.html" TargetMode="External"/><Relationship Id="rId4" Type="http://schemas.openxmlformats.org/officeDocument/2006/relationships/hyperlink" Target="http://lists.w3.org/Archives/Member/w3c-xml-schema-wg/2005Apr/0035.html" TargetMode="External"/><Relationship Id="rId5" Type="http://schemas.openxmlformats.org/officeDocument/2006/relationships/hyperlink" Target="http://www.w3.org/2001/tag/doc/versioning.html" TargetMode="External"/><Relationship Id="rId6" Type="http://schemas.openxmlformats.org/officeDocument/2006/relationships/hyperlink" Target="http://www.pacificspirit.com/blog/2004/01/12/web_services_or_distributed_objects" TargetMode="External"/><Relationship Id="rId7" Type="http://schemas.openxmlformats.org/officeDocument/2006/relationships/hyperlink" Target="http://www.pacificspirit.com/Authoring/Compatibility/ExaminingElementWildcardSiblings.html" TargetMode="External"/><Relationship Id="rId8" Type="http://schemas.openxmlformats.org/officeDocument/2006/relationships/hyperlink" Target="http://www.pacificspirit.com/Authoring/Compatibility/ProvidingCompatibleSchemaEvolution.html" TargetMode="External"/><Relationship Id="rId9" Type="http://schemas.openxmlformats.org/officeDocument/2006/relationships/hyperlink" Target="http://www.w3.org/2005/05/xsd-versioning-resources.html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XML/2005/xsd-versioning-use-cases/" TargetMode="External"/><Relationship Id="rId2" Type="http://schemas.openxmlformats.org/officeDocument/2006/relationships/hyperlink" Target="http://www.w3.org/XML/2004/02/xsdv.html" TargetMode="External"/><Relationship Id="rId3" Type="http://schemas.openxmlformats.org/officeDocument/2006/relationships/hyperlink" Target="http://lists.w3.org/Archives/Public/www-tag/2004Aug/att-0010/NRMVersioningProposal.html" TargetMode="External"/><Relationship Id="rId4" Type="http://schemas.openxmlformats.org/officeDocument/2006/relationships/hyperlink" Target="http://lists.w3.org/Archives/Member/w3c-xml-schema-wg/2005Apr/0035.html" TargetMode="External"/><Relationship Id="rId5" Type="http://schemas.openxmlformats.org/officeDocument/2006/relationships/hyperlink" Target="http://www.w3.org/2001/tag/doc/versioning.html" TargetMode="External"/><Relationship Id="rId6" Type="http://schemas.openxmlformats.org/officeDocument/2006/relationships/hyperlink" Target="http://www.pacificspirit.com/blog/2004/01/12/web_services_or_distributed_objects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W3C XML Schema WG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Versioning and Extensibility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of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Schemas and Vocabularies</a:t>
            </a:r>
            <a:endParaRPr b="0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h Mendels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XML Schema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hecking in Tool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ooling to check what content accepted by S1 would be rejected by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ools to implement flexible policies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s schema versioning from schema document packaging and namespaces (unless user wants to cou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ma WG is building necessary technology for simplified complex type restriction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360" y="60958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echanisms in: http://www.w3.org/XML/2004/02/xsd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431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6440" y="312732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imes New Roman (PCL6)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hould be the key to loose coup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documen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y self-descri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ioms for evolving languages, vocabularies and schemas not agr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nam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vs.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to schema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better support for evolving vocabularies is a main goal of Schema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Resour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ML Schema Versioning Use 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Hoylen Sue, DSTC Pty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mework for discussion of versi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Michael Sperberg-McQu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 Approach for Evolving XML Vocabularies Using XM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ah Mendels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ersioning Task force (Member-only link), with linked references to earlier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Editorial Draft] Versioning XML Languages Proposed TAG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David Orchard and Norman Wal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 services = or != distributed objec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2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amining wildcards for vers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8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viding Compatible Schema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9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640" y="579132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w3.org/2005/05/xsd-versioning-resour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Resour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ML Schema Versioning Use 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Hoylen Sue, DSTC Pty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mework for discussion of versi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Michael Sperberg-McQu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 Approach for Evolving XML Vocabularies Using XM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ah Mendels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ersioning Task force (Member-only link), with linked references to earlier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Editorial Draft] Versioning XML Languages Proposed TAG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David Orchard and Norman Wal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 services = or != distributed objec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2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amining wildcards for vers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8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viding Compatible Schema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9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640" y="579132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w3.org/2005/05/xsd-versioning-resour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533520"/>
            <a:ext cx="3962520" cy="1218960"/>
          </a:xfrm>
          <a:prstGeom prst="wedgeRoundRectCallout">
            <a:avLst>
              <a:gd name="adj1" fmla="val -52763"/>
              <a:gd name="adj2" fmla="val 7109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 WG is collecting and analyzing Use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Resour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ML Schema Versioning Use 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Hoylen Sue, DSTC Pty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mework for discussion of versi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Michael Sperberg-McQu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 Approach for Evolving XML Vocabularies Using XM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ah Mendels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ersioning Task force (Member-only link), with linked references to earlier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Editorial Draft] Versioning XML Languages Proposed TAG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David Orchard and Norman Wal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 services = or != distributed objec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2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amining wildcards for vers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8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viding Compatible Schema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9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640" y="579132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w3.org/2005/05/xsd-versioning-resour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33520"/>
            <a:ext cx="3962520" cy="1218960"/>
          </a:xfrm>
          <a:prstGeom prst="wedgeRoundRectCallout">
            <a:avLst>
              <a:gd name="adj1" fmla="val -48958"/>
              <a:gd name="adj2" fmla="val 90106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of terminology and proposed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Resour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ML Schema Versioning Use 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Hoylen Sue, DSTC Pty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mework for discussion of versi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Michael Sperberg-McQu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 Approach for Evolving XML Vocabularies Using XM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ah Mendels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ersioning Task force (Member-only link), with linked references to earlier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Editorial Draft] Versioning XML Languages Proposed TAG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David Orchard and Norman Wal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 services = or != distributed objec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2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amining wildcards for vers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8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viding Compatible Schema 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9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640" y="579132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w3.org/2005/05/xsd-versioning-resour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533520"/>
            <a:ext cx="3962520" cy="1447560"/>
          </a:xfrm>
          <a:prstGeom prst="wedgeRoundRectCallout">
            <a:avLst>
              <a:gd name="adj1" fmla="val -44833"/>
              <a:gd name="adj2" fmla="val 90569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 by Noah includes general principles and some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Resourc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Group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ML Schema Versioning Use C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Hoylen Sue, DSTC Pty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mework for discussion of versi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Michael Sperberg-McQu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 Approach for Evolving XML Vocabularies Using XML Sche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ah Mendels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ersioning Task force (Member-only link), with linked references to earlier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Editorial Draft] Versioning XML Languages Proposed TAG Fi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d. David Orchard and Norman Wal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 services = or != distributed objec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vid Orchard, 12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ing wildcards for versioning, David Orchard, 8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Compatible Schema Evolution, David Orchard, 19 January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640" y="579132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: http://www.w3.org/2005/05/xsd-versioning-resourc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1295280"/>
            <a:ext cx="3962520" cy="1614960"/>
          </a:xfrm>
          <a:prstGeom prst="wedgeRoundRectCallout">
            <a:avLst>
              <a:gd name="adj1" fmla="val -61407"/>
              <a:gd name="adj2" fmla="val 111953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Orchard is leading an analysis of XML Versioning for the W3C Technical Architecture Group (TA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Some Principles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support for repeated revisions (&gt;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ed to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resume constructs in instance docs: (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extension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/backward compatibi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changes happ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/enforce compatibility i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may or may not form sequence or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ed as deltas (see 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8240" y="609588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cc33"/>
                </a:solidFill>
                <a:uFillTx/>
                <a:latin typeface="Arial"/>
              </a:rPr>
              <a:t>SNA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ometim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o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Restriction vs. Extension</a:t>
            </a: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: base schema allows all futur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s validate futu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A allows apps to know which content matched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wildcards beat UPA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ldcard matches:  any elements I don’t know about in this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chem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id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version 1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ssing modes indicate to apps which subset of received content would have vali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5:19:20Z</dcterms:created>
  <dc:creator>Noah Mendelsohn</dc:creator>
  <dc:description/>
  <dc:language>en-US</dc:language>
  <cp:lastModifiedBy>Noah Mendelsohn</cp:lastModifiedBy>
  <dcterms:modified xsi:type="dcterms:W3CDTF">2005-06-22T16:14:55Z</dcterms:modified>
  <cp:revision>11</cp:revision>
  <dc:subject/>
  <dc:title>W3C XML Schema WG Versioning and Extensibility of Schemas and Vocabularies</dc:title>
</cp:coreProperties>
</file>