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E338-06B2-4EC6-ABFF-B7A9F394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2860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243E-714C-45C5-ACC9-0B9DFB3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760D-E073-47A6-B85F-B8DC5404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360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360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583C-0036-4798-B109-5D8AD2FE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40B1-3386-4C29-AB81-6159179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992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2860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992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3600" y="159984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3600" y="3828600"/>
            <a:ext cx="2503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CD0E-C3EE-4C43-B3B7-C4C81DC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34AD-405F-4D50-9D86-6368A91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3386-CBF1-46D6-962D-0C91F6A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D7D5-B3C9-4DDE-872D-8451F5D5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FA54-0291-44D4-A3D0-A527001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82860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AE2E-B139-4AA6-BE71-00F86E8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794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28600"/>
            <a:ext cx="7775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91A7-827F-4D70-BE69-6AAECE53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064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560" y="5256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9F3-F96B-4470-A566-0B93D8E2A49F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33ED-4D9D-47A5-98D4-18A5A52BBFFD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420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228240" y="6248520"/>
            <a:ext cx="39625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5"/>
          </p:nvPr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340-7217-49D4-A878-475AF837B19E}" type="datetime"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24852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tertwingly.net/slides/2002/devcon/SchemaSecrets.ppt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Experience with W3C XML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49400" y="4106880"/>
            <a:ext cx="64008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Noah Mendelsohn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June 21, 2005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694F7007-F96B-442D-BEC5-D121A3632F6C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matters about XML Schema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met its main goal: it’s ubiquit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&amp; Schema integrate documents and data:  this is a uniquely important inno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 is important, b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only us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and .Net are important, but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only languages that matter (XSL, XML Query, Python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4815-C68F-408C-9F15-FE14CD0E88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77E4BB-8B1A-4A44-84C5-3F1403AFD7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tability vs. chang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52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(sometimes) rely on validators:  changing validation rules can impact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erces APIs are isomorphic to the XML Schema component model:  we prefer only essential changes to the component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and Schema are about loose coupling…rolling out new versions of the schema language will be very h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s must have such compelling value that both end users and middleware vendors will deploy aggressively and ubiquitous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105520"/>
            <a:ext cx="539640" cy="387360"/>
          </a:xfrm>
          <a:prstGeom prst="rightArrow">
            <a:avLst>
              <a:gd name="adj1" fmla="val 50000"/>
              <a:gd name="adj2" fmla="val 348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ECA2-68E0-4A54-AF94-563931ED7D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5517B-9DFD-43AA-9C7C-DED6C44A6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blems with XML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vs. glob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cessarily forbidding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A:  valuable for typing &amp; mappings, difficult fo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conforma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XML constructs means difficult binding to “traditional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content and java.lang.string don’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ing and exten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s right could justify a new version of XM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see prev. slide:  needs to generate groundswell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CD10-CD4A-437B-8A56-F9335050E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CC52E-FFF0-4C08-B20E-F3EC7F0542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to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tooling, languages and con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high value changes to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willing to abandon work if feedback suggests lack of widespread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disruption matters:  e.g. new types less disruptive than structur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dumb down XML or Schema to meet limitations of particular programm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profiles, but support full con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: ubiquity, stability, inter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be afraid to leave it al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429A-3317-49AD-A1E4-F284C0C37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A44FEA-2B5A-4830-9FE0-7F3B458096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685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n a lighter note…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“Some things I learned working on XML Schema”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162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uch thing as a “simple”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 committee -&gt; big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s &amp; data together are c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either community gets a simple schem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realistic sched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49"/>
              </a:spcBef>
              <a:spcAft>
                <a:spcPts val="12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n’t make time to pul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572000"/>
            <a:ext cx="8077320" cy="13716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n informal presentation on the schema language giv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years ago.   Slides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intertwingly.net/slides/2002/devcon/SchemaSecrets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5A2A-149A-4599-97CA-BA1DC748A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C4B605-9FF0-44BE-86D7-497EFBFC67F1}" type="datetime1">
              <a:rPr lang="en-US"/>
              <a:t>07/29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431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6440" y="312732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Times New Roman (PCL6)"/>
                <a:ea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3C XML Schema User Experiences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A33A-7F05-457E-8290-E359CED5FC3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B7CF33-390E-407C-9D1A-6CBC734D1DA6}" type="datetime1">
              <a:rPr lang="en-US"/>
              <a:t>07/29/26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6:45:36Z</dcterms:created>
  <dc:creator>Noah Mendelsohn</dc:creator>
  <dc:description>Blue Onyx Deluxe, Blue Pearl Deluxe:  Generally for "customer-facing" presentations
-  Blue Pearl Deluxe is useful for one-on-one laptop presentations and for easy printing.  Textures on the opening screen carry through the blue bands on text slides.
-  Blue Onyx Deluxe relies heavily on black for maximum contrast, particularly in projection.
Blue Onyx Basic, Blue Pearl Basic:  Intended for basic internal presentations.  May also be used for customers.
-  Blue Onyx Basic uses black throughout for maximum contrast, particularly in projection.
-  Blue Pearl Basic works well for one-on-one laptop presentations and makes printing easy.
</dc:description>
  <dc:language>en-US</dc:language>
  <cp:lastModifiedBy>Noah Mendelsohn</cp:lastModifiedBy>
  <dcterms:modified xsi:type="dcterms:W3CDTF">2005-06-21T21:04:08Z</dcterms:modified>
  <cp:revision>29</cp:revision>
  <dc:subject/>
  <dc:title>IBM Experience with W3C XML Schema</dc:title>
</cp:coreProperties>
</file>