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3708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1640" y="181080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252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3708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1640" y="4022280"/>
            <a:ext cx="243252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79480" y="715680"/>
            <a:ext cx="775800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960" y="402228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960" y="1810800"/>
            <a:ext cx="36867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2520" y="4022280"/>
            <a:ext cx="755496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3720" y="6005520"/>
            <a:ext cx="1430280" cy="852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2520" y="181080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4400" indent="-269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89240" indent="-284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74880" indent="-295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774880" indent="-295200">
              <a:spcBef>
                <a:spcPts val="601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774880" indent="-295200">
              <a:spcBef>
                <a:spcPts val="601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049800"/>
            <a:ext cx="317484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8280" y="5243400"/>
            <a:ext cx="81453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257960" y="246240"/>
            <a:ext cx="188604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33960" cy="5116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480" indent="962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3920" indent="1150920" algn="ctr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39760" indent="1339920" algn="ctr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39760" indent="1339920">
              <a:spcBef>
                <a:spcPts val="451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39760" indent="1339920">
              <a:spcBef>
                <a:spcPts val="451"/>
              </a:spcBef>
              <a:buClr>
                <a:srgbClr val="00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8280" y="5243400"/>
            <a:ext cx="81453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T User Experienc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8280" y="5981400"/>
            <a:ext cx="8145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n Calla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st Jun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6000" y="38556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1600" y="145044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for describing Web service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binding is an expectation amongst develop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r experience, XML Schema is implemented inconsistently in vendor tools, especially code gener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lready is a lowest common denominator ‘profile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interoperability testing is essen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est pack is requi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184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around interoperability issues with vendor supplied tools is difficul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Practices are required for a number of different aspects of schema e.g. Vers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5240" y="1233360"/>
            <a:ext cx="447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C Q A X O N V Q J I D U A G T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O X M A S N K X J R R X B C C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M T A I C C T D D C S Z Z S B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P X W L X P H A R S D T G R J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L G A V U E P O E A R V B U J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E Q W S B Q D Q I N W R S C O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X U V Q N H U C L C E U R C R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T A G P N E F J O C E H T O Z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Y L V E N E T I A N B L I N D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P I E C T Q T P W B T C R I N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E F E A Q Z S C E U Y E G M W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O Y F O P E L J A V H O N R R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T O P C M N I L L A B L E T W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Courier New"/>
              </a:rPr>
              <a:t>E E L A W N L W E A V J X F D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3"/>
                </a:solidFill>
                <a:latin typeface="Courier New"/>
              </a:rPr>
              <a:t>X I N A P U R U O N O H G R T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50960" y="5105520"/>
            <a:ext cx="2441520" cy="29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913200">
            <a:off x="820440" y="2814480"/>
            <a:ext cx="3782880" cy="27000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3558200">
            <a:off x="1164240" y="2225880"/>
            <a:ext cx="3030840" cy="26964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51720" y="1179360"/>
            <a:ext cx="200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XS:SEQUEN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XS:CHOI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HONOUR UPA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COMPLEXTYP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MINOCCUR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MIXEDCONTENT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QUALIF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NILLABL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VENETIANBLIND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3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6560" y="1247760"/>
            <a:ext cx="36226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BT Schema/Web Services evolution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2520" y="1810800"/>
            <a:ext cx="45640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th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Centric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y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16480" y="3710160"/>
            <a:ext cx="38275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Enabling the infrastructure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3840" y="234756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industry support for the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h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C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ion matched existing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ity conqu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s to the leg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2920" y="144792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s a success because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Enabling the Infrastructure - 2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217240"/>
            <a:ext cx="47800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vy emphasis on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Ben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city and restricted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technologies depended on ann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APENC,:arrayType, unbounded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dn’t fully embraced the concept of contract first 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sioning began to be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6880" y="14842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...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884" t="5875" r="8825" b="8828"/>
          <a:stretch/>
        </p:blipFill>
        <p:spPr>
          <a:xfrm>
            <a:off x="5473800" y="3683160"/>
            <a:ext cx="36702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24040" y="4427640"/>
            <a:ext cx="1942920" cy="1093680"/>
          </a:xfrm>
          <a:prstGeom prst="rect">
            <a:avLst/>
          </a:prstGeom>
          <a:solidFill>
            <a:srgbClr val="00ff00"/>
          </a:solidFill>
          <a:ln w="3168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71760" y="1671480"/>
            <a:ext cx="282600" cy="2536920"/>
          </a:xfrm>
          <a:prstGeom prst="downArrow">
            <a:avLst>
              <a:gd name="adj1" fmla="val 50000"/>
              <a:gd name="adj2" fmla="val 224427"/>
            </a:avLst>
          </a:prstGeom>
          <a:solidFill>
            <a:srgbClr val="ffcc00"/>
          </a:solidFill>
          <a:ln w="3168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27320" y="541440"/>
            <a:ext cx="2547720" cy="1041120"/>
          </a:xfrm>
          <a:prstGeom prst="rect">
            <a:avLst/>
          </a:prstGeom>
          <a:solidFill>
            <a:srgbClr val="00ff00"/>
          </a:solidFill>
          <a:ln w="3168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0880" y="560160"/>
            <a:ext cx="23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35 system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&gt;30 registered robot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20,000 ‘dumb’ scree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47720" y="5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87400" y="4394880"/>
            <a:ext cx="203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C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Times New Roman"/>
              </a:rPr>
              <a:t>Copper Record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62160" y="4389480"/>
            <a:ext cx="6127920" cy="1633320"/>
            <a:chOff x="2162160" y="4389480"/>
            <a:chExt cx="6127920" cy="1633320"/>
          </a:xfrm>
        </p:grpSpPr>
        <p:sp>
          <p:nvSpPr>
            <p:cNvPr id="99" name=""/>
            <p:cNvSpPr/>
            <p:nvPr/>
          </p:nvSpPr>
          <p:spPr>
            <a:xfrm>
              <a:off x="5946840" y="4389480"/>
              <a:ext cx="2073240" cy="1068480"/>
            </a:xfrm>
            <a:prstGeom prst="rect">
              <a:avLst/>
            </a:prstGeom>
            <a:solidFill>
              <a:srgbClr val="00ff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62160" y="5559480"/>
              <a:ext cx="6127920" cy="463320"/>
            </a:xfrm>
            <a:custGeom>
              <a:avLst/>
              <a:gdLst>
                <a:gd name="textAreaLeft" fmla="*/ 1072440 w 6127920"/>
                <a:gd name="textAreaRight" fmla="*/ 4442760 w 6127920"/>
                <a:gd name="textAreaTop" fmla="*/ 61920 h 463320"/>
                <a:gd name="textAreaBottom" fmla="*/ 40140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6800" y="554868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gration</a:t>
              </a:r>
              <a:endParaRPr b="0" lang="en-US" sz="2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0720" y="4407480"/>
              <a:ext cx="955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33"/>
                  </a:solidFill>
                  <a:latin typeface="Times New Roman"/>
                </a:rPr>
                <a:t>BMS</a:t>
              </a:r>
              <a:endParaRPr b="0" lang="en-US" sz="24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3"/>
                  </a:solidFill>
                  <a:latin typeface="Times New Roman"/>
                </a:rPr>
                <a:t>(COTS)</a:t>
              </a: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907720" y="1247760"/>
            <a:ext cx="4281120" cy="2994120"/>
            <a:chOff x="2907720" y="1247760"/>
            <a:chExt cx="4281120" cy="2994120"/>
          </a:xfrm>
        </p:grpSpPr>
        <p:sp>
          <p:nvSpPr>
            <p:cNvPr id="104" name=""/>
            <p:cNvSpPr/>
            <p:nvPr/>
          </p:nvSpPr>
          <p:spPr>
            <a:xfrm>
              <a:off x="3809880" y="2355840"/>
              <a:ext cx="2265480" cy="126216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33"/>
                  </a:solidFill>
                  <a:latin typeface="Times New Roman"/>
                </a:rPr>
                <a:t>BMS Hub</a:t>
              </a:r>
              <a:endParaRPr b="0" lang="en-US" sz="24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400800">
              <a:off x="2769480" y="3621960"/>
              <a:ext cx="1116000" cy="216000"/>
            </a:xfrm>
            <a:prstGeom prst="leftArrow">
              <a:avLst>
                <a:gd name="adj1" fmla="val 56167"/>
                <a:gd name="adj2" fmla="val 114815"/>
              </a:avLst>
            </a:prstGeom>
            <a:solidFill>
              <a:srgbClr val="ffcc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3715400">
              <a:off x="6180480" y="3542400"/>
              <a:ext cx="1116000" cy="216000"/>
            </a:xfrm>
            <a:prstGeom prst="leftArrow">
              <a:avLst>
                <a:gd name="adj1" fmla="val 56167"/>
                <a:gd name="adj2" fmla="val 114815"/>
              </a:avLst>
            </a:prstGeom>
            <a:solidFill>
              <a:srgbClr val="ffcc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3389000">
              <a:off x="4029120" y="1600200"/>
              <a:ext cx="1116000" cy="216000"/>
            </a:xfrm>
            <a:prstGeom prst="leftArrow">
              <a:avLst>
                <a:gd name="adj1" fmla="val 56167"/>
                <a:gd name="adj2" fmla="val 114815"/>
              </a:avLst>
            </a:prstGeom>
            <a:solidFill>
              <a:srgbClr val="ffcc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304680" y="2701800"/>
            <a:ext cx="2343960" cy="565200"/>
            <a:chOff x="6304680" y="2701800"/>
            <a:chExt cx="2343960" cy="565200"/>
          </a:xfrm>
        </p:grpSpPr>
        <p:sp>
          <p:nvSpPr>
            <p:cNvPr id="109" name=""/>
            <p:cNvSpPr/>
            <p:nvPr/>
          </p:nvSpPr>
          <p:spPr>
            <a:xfrm>
              <a:off x="7270920" y="2701800"/>
              <a:ext cx="1377720" cy="565200"/>
            </a:xfrm>
            <a:prstGeom prst="rect">
              <a:avLst/>
            </a:prstGeom>
            <a:solidFill>
              <a:srgbClr val="ff00ff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33"/>
                  </a:solidFill>
                  <a:latin typeface="Times New Roman"/>
                </a:rPr>
                <a:t>Pub/Sub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21600">
              <a:off x="6305040" y="2935080"/>
              <a:ext cx="960480" cy="203040"/>
            </a:xfrm>
            <a:prstGeom prst="leftArrow">
              <a:avLst>
                <a:gd name="adj1" fmla="val 56167"/>
                <a:gd name="adj2" fmla="val 105122"/>
              </a:avLst>
            </a:prstGeom>
            <a:solidFill>
              <a:srgbClr val="ffcc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608360" y="159480"/>
            <a:ext cx="355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ocument Centric: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Bearer Mgt System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75040" y="4321440"/>
            <a:ext cx="2048040" cy="750600"/>
            <a:chOff x="3875040" y="4321440"/>
            <a:chExt cx="2048040" cy="750600"/>
          </a:xfrm>
        </p:grpSpPr>
        <p:sp>
          <p:nvSpPr>
            <p:cNvPr id="113" name=""/>
            <p:cNvSpPr/>
            <p:nvPr/>
          </p:nvSpPr>
          <p:spPr>
            <a:xfrm>
              <a:off x="3875040" y="4853160"/>
              <a:ext cx="2048040" cy="218880"/>
            </a:xfrm>
            <a:prstGeom prst="rightArrow">
              <a:avLst>
                <a:gd name="adj1" fmla="val 50000"/>
                <a:gd name="adj2" fmla="val 233923"/>
              </a:avLst>
            </a:prstGeom>
            <a:solidFill>
              <a:srgbClr val="ffcc00"/>
            </a:solidFill>
            <a:ln w="3168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9040" y="4321440"/>
              <a:ext cx="135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 WS(MQ)</a:t>
              </a:r>
              <a:endParaRPr b="0" lang="en-US" sz="14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70k calls/hour</a:t>
              </a:r>
              <a:endParaRPr b="0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490400" y="1942560"/>
            <a:ext cx="964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DCE RPC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Corba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SISS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MQSeries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IP 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Times New Roman"/>
              </a:rPr>
              <a:t>3270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Document Centric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920" y="1389240"/>
            <a:ext cx="469728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re-usabl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ture proofed, Compliant = Doc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f tools essential. (Range of clients + robo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s not supported, unpredictabl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s:all, xs: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ed the bar on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d to constrain the schema desig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42120" y="3798720"/>
          <a:ext cx="370188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2120" y="3798720"/>
                    <a:ext cx="370188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9480" y="461880"/>
            <a:ext cx="775800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Document Centric - 2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5600" y="1836360"/>
            <a:ext cx="46530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date &amp; tim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user defined simp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space qualify schem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ways qualify schema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venetian blind style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st repeated elements in their own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xs:choice, xs: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nillable=“true” &amp; minOccurs= “0” for optional schema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281560" y="3006720"/>
          <a:ext cx="386244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1560" y="3006720"/>
                    <a:ext cx="386244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79720" y="120168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kit Friendly Schema Vocabular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935240" y="4003200"/>
            <a:ext cx="37018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9900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 Party schema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920" y="2406240"/>
            <a:ext cx="7554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determinism, Invalidation of the UPA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ubstitution groups extens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kits don’t support thi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Content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ly represented/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we have departed from the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8520" y="1386000"/>
            <a:ext cx="63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rvice Provisioning Markup Language. OASIS Nov 2003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9480" y="715680"/>
            <a:ext cx="7758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Going to Market</a:t>
            </a:r>
            <a:endParaRPr b="0" lang="en-US" sz="36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05080"/>
            <a:ext cx="53895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, volum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le interfaces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gulation, equivalence o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able to support ‘best of breed’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BT B2B/ebXML implementations do not publish schemas  but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-6778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are clamouring for them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53960" indent="-295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sist in processing the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8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84840" y="3241800"/>
            <a:ext cx="3359160" cy="361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35240" y="1810800"/>
            <a:ext cx="37018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2:03:08Z</dcterms:created>
  <dc:creator>Jim Craig</dc:creator>
  <dc:description/>
  <dc:language>en-US</dc:language>
  <cp:lastModifiedBy>BT</cp:lastModifiedBy>
  <dcterms:modified xsi:type="dcterms:W3CDTF">2005-06-21T19:44:36Z</dcterms:modified>
  <cp:revision>115</cp:revision>
  <dc:subject/>
  <dc:title>Slide 1</dc:title>
</cp:coreProperties>
</file>